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6.png" ContentType="image/png"/>
  <Override PartName="/ppt/media/image14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1680" y="4684320"/>
            <a:ext cx="547380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36F0B2-AF4F-4E99-BE77-47447C1A4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181160" y="3613320"/>
            <a:ext cx="44355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A189-C8D4-4421-9852-B6B228771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2A94-82AB-4065-9CE6-14F9397C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3750-0A55-4F5B-9A87-B8AFF0CD4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FAE9-8F88-402F-A056-1D3B873BD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C580-446E-42E2-8F47-87332E8AF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A87B-1075-4EA7-B257-ADD68B728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1506-AE4D-4865-B6C2-D8C33CFB8C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6CD0-0103-44F4-83FE-0076E4E940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BEC7-77A3-4E9F-9775-E168539E0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ADDF-A01E-4298-AE4C-FF48C47FF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CCC3-1C69-4E51-BDF6-FE38222EE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33CD-9940-464D-9926-348FEEFD1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0E5D-62AC-4E65-AB31-310557CBAE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D4F7-C203-4C97-93E0-B69442D0B6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8FAE-B7A8-4F8A-9265-6E3A5A35D1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4560-E067-40DB-9B9D-48359EC91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88AD-19A1-4C01-9876-FFABB15AC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933A-FEDE-48BE-9E45-B3D7C1210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D325-1392-444A-9D9F-6960FA26A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D4F3-8011-4867-BA02-9DC54A92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DC04-A279-4BA7-AF66-5C20432E4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C422-3D24-4336-9609-466CACF29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53E9-5D44-4892-B44E-D3B6A4D0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5897-F8D7-4E18-8F78-96213B93A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99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4ED-133F-47C0-BB8E-3E1E99D4413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19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E31-260B-43A9-9F10-158EC57A96D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609480"/>
            <a:ext cx="85327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66"/>
                </a:solidFill>
                <a:latin typeface="Arial"/>
              </a:rPr>
              <a:t>La déconcentration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52280" y="581940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AMUE – DPATE – ETABLISSEMENTS - PARF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0020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Arial"/>
              </a:rPr>
              <a:t>à travers l’exemple de la  gestion des personnels de l’enseignement supérie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lef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589560" cy="14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D2ED-5563-4F0D-8A91-C2F3E76BF5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orientations politiqu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règles, les procédures et les calendrie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erce le contrôle, le plus souvent a prior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ède à l’évaluation des politiques mené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OUT  EST  CONCENTRE  AU  NIVEAU  DE  L’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Tous les pouvoirs,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is aussi la gest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, relèvent de la compétence du minis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1E4F-2589-4580-988A-F3D5DF2A8C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2200" y="281952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and l’administration est centralisée, il est exercé par un représentant du ministre des finances placé auprès de chacun des autres ministr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l s’exerce le plus souvent a priori (un visa doit être donné par le contrôleur financier préalablement à l’engagement de la dépens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600200"/>
            <a:ext cx="7543800" cy="7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 contrôle financier sert à vérifier la régularité budgétaire des opérations relatives aux dép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6832-97D4-4926-A2BC-D7F362150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70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qui méconnaît le terrain et qui ignore une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ande part de ses contrain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0844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non réactive et des délais import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86200"/>
            <a:ext cx="91440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non responsabilisé :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out dépend toujours du ministè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0" name="Pile_bureau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205740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717E-7E83-44B4-8CA8-6DC8911BB6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su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qui méconnaît le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traintes du ministère (il en a !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e transferts de savoirs (ou alors peu formalisés)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ais d’innombrables informations, de toutes sortes,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’échang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08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’expériences ou d’actions à caractè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ministériel au niveau lo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ED86-A6A6-44A6-9D5D-779246B9F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Pourquoi changer ?</a:t>
            </a:r>
            <a:br>
              <a:rPr sz="4800"/>
            </a:br>
            <a:br>
              <a:rPr sz="4400"/>
            </a:br>
            <a:r>
              <a:rPr b="0" i="1" lang="fr-FR" sz="4400" spc="-1" strike="noStrike">
                <a:solidFill>
                  <a:srgbClr val="ffffff"/>
                </a:solidFill>
                <a:latin typeface="Arial"/>
              </a:rPr>
              <a:t>Quels enjeux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7" name="questions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5969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A409-E2DF-4505-93EF-04B6A8DAA1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228276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l’État aux besoins de la socié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pondre à une demande de gestion de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ximit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er le niveau loca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structur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comportements et les modes de fonctionn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our plus de souplesse, de réactivité et donc de qualité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Mesur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55960" y="-79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773280"/>
            <a:ext cx="6019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Un enjeu fondament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BDA2-4764-4A80-8F5D-CD7681E825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 et déconcentrer</a:t>
            </a:r>
            <a:r>
              <a:rPr b="0" lang="fr-FR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685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’État a deux moyens principaux pour atteindre de tels objectifs  et transférer s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760920"/>
            <a:ext cx="693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 décentralisation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5256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Assemblées élues des Collectivités territoriales ou à des établissements public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9400" y="483084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dé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30380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Services déconcentré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31080" y="3276720"/>
            <a:ext cx="26859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962D-5952-42F0-AF76-B1ACD4E9BF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’une gestion 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e gestion dé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/ou déconcentr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Quelle répartition des missions entre les administrations centrales et le niveau loca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DECID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12716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doigt_pointé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671400" cy="1887480"/>
          </a:xfrm>
          <a:prstGeom prst="rect">
            <a:avLst/>
          </a:prstGeom>
          <a:ln w="0">
            <a:noFill/>
          </a:ln>
        </p:spPr>
      </p:pic>
      <p:pic>
        <p:nvPicPr>
          <p:cNvPr id="162" name="doigt%20pointé" descr=""/>
          <p:cNvPicPr/>
          <p:nvPr/>
        </p:nvPicPr>
        <p:blipFill>
          <a:blip r:embed="rId3"/>
          <a:stretch/>
        </p:blipFill>
        <p:spPr>
          <a:xfrm flipH="1">
            <a:off x="914400" y="2077920"/>
            <a:ext cx="1231920" cy="15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01A9-4DD3-4DB3-BF52-8575CE4C1943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4" name="REORGAN" descr=""/>
          <p:cNvPicPr/>
          <p:nvPr/>
        </p:nvPicPr>
        <p:blipFill>
          <a:blip r:embed="rId1"/>
          <a:stretch/>
        </p:blipFill>
        <p:spPr>
          <a:xfrm>
            <a:off x="5486400" y="22813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62D9-C662-4809-9784-F01D03AE8F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1166000">
            <a:off x="3047760" y="2362320"/>
            <a:ext cx="358560" cy="914400"/>
          </a:xfrm>
          <a:custGeom>
            <a:avLst/>
            <a:gdLst/>
            <a:ahLst/>
            <a:rect l="l" t="t" r="r" b="b"/>
            <a:pathLst>
              <a:path w="2568" h="8038">
                <a:moveTo>
                  <a:pt x="2353" y="0"/>
                </a:moveTo>
                <a:lnTo>
                  <a:pt x="2317" y="264"/>
                </a:lnTo>
                <a:lnTo>
                  <a:pt x="2298" y="531"/>
                </a:lnTo>
                <a:lnTo>
                  <a:pt x="2295" y="797"/>
                </a:lnTo>
                <a:lnTo>
                  <a:pt x="2303" y="1058"/>
                </a:lnTo>
                <a:lnTo>
                  <a:pt x="2322" y="1314"/>
                </a:lnTo>
                <a:lnTo>
                  <a:pt x="2349" y="1562"/>
                </a:lnTo>
                <a:lnTo>
                  <a:pt x="2381" y="1799"/>
                </a:lnTo>
                <a:lnTo>
                  <a:pt x="2414" y="2025"/>
                </a:lnTo>
                <a:lnTo>
                  <a:pt x="2449" y="2234"/>
                </a:lnTo>
                <a:lnTo>
                  <a:pt x="2480" y="2427"/>
                </a:lnTo>
                <a:lnTo>
                  <a:pt x="2506" y="2600"/>
                </a:lnTo>
                <a:lnTo>
                  <a:pt x="2525" y="2750"/>
                </a:lnTo>
                <a:lnTo>
                  <a:pt x="2535" y="2877"/>
                </a:lnTo>
                <a:lnTo>
                  <a:pt x="2531" y="2976"/>
                </a:lnTo>
                <a:lnTo>
                  <a:pt x="2512" y="3047"/>
                </a:lnTo>
                <a:lnTo>
                  <a:pt x="2476" y="3087"/>
                </a:lnTo>
                <a:lnTo>
                  <a:pt x="2444" y="3042"/>
                </a:lnTo>
                <a:lnTo>
                  <a:pt x="2413" y="3000"/>
                </a:lnTo>
                <a:lnTo>
                  <a:pt x="2382" y="2960"/>
                </a:lnTo>
                <a:lnTo>
                  <a:pt x="2351" y="2922"/>
                </a:lnTo>
                <a:lnTo>
                  <a:pt x="2320" y="2888"/>
                </a:lnTo>
                <a:lnTo>
                  <a:pt x="2290" y="2855"/>
                </a:lnTo>
                <a:lnTo>
                  <a:pt x="2259" y="2824"/>
                </a:lnTo>
                <a:lnTo>
                  <a:pt x="2228" y="2795"/>
                </a:lnTo>
                <a:lnTo>
                  <a:pt x="2199" y="2769"/>
                </a:lnTo>
                <a:lnTo>
                  <a:pt x="2168" y="2746"/>
                </a:lnTo>
                <a:lnTo>
                  <a:pt x="2138" y="2723"/>
                </a:lnTo>
                <a:lnTo>
                  <a:pt x="2109" y="2703"/>
                </a:lnTo>
                <a:lnTo>
                  <a:pt x="2079" y="2685"/>
                </a:lnTo>
                <a:lnTo>
                  <a:pt x="2049" y="2669"/>
                </a:lnTo>
                <a:lnTo>
                  <a:pt x="2020" y="2655"/>
                </a:lnTo>
                <a:lnTo>
                  <a:pt x="1990" y="2642"/>
                </a:lnTo>
                <a:lnTo>
                  <a:pt x="1961" y="2631"/>
                </a:lnTo>
                <a:lnTo>
                  <a:pt x="1932" y="2623"/>
                </a:lnTo>
                <a:lnTo>
                  <a:pt x="1902" y="2615"/>
                </a:lnTo>
                <a:lnTo>
                  <a:pt x="1874" y="2610"/>
                </a:lnTo>
                <a:lnTo>
                  <a:pt x="1844" y="2606"/>
                </a:lnTo>
                <a:lnTo>
                  <a:pt x="1816" y="2604"/>
                </a:lnTo>
                <a:lnTo>
                  <a:pt x="1787" y="2604"/>
                </a:lnTo>
                <a:lnTo>
                  <a:pt x="1759" y="2604"/>
                </a:lnTo>
                <a:lnTo>
                  <a:pt x="1730" y="2606"/>
                </a:lnTo>
                <a:lnTo>
                  <a:pt x="1700" y="2610"/>
                </a:lnTo>
                <a:lnTo>
                  <a:pt x="1672" y="2614"/>
                </a:lnTo>
                <a:lnTo>
                  <a:pt x="1643" y="2621"/>
                </a:lnTo>
                <a:lnTo>
                  <a:pt x="1616" y="2628"/>
                </a:lnTo>
                <a:lnTo>
                  <a:pt x="1587" y="2637"/>
                </a:lnTo>
                <a:lnTo>
                  <a:pt x="1559" y="2647"/>
                </a:lnTo>
                <a:lnTo>
                  <a:pt x="1530" y="2658"/>
                </a:lnTo>
                <a:lnTo>
                  <a:pt x="1498" y="2820"/>
                </a:lnTo>
                <a:lnTo>
                  <a:pt x="1471" y="2984"/>
                </a:lnTo>
                <a:lnTo>
                  <a:pt x="1448" y="3150"/>
                </a:lnTo>
                <a:lnTo>
                  <a:pt x="1431" y="3318"/>
                </a:lnTo>
                <a:lnTo>
                  <a:pt x="1417" y="3489"/>
                </a:lnTo>
                <a:lnTo>
                  <a:pt x="1409" y="3659"/>
                </a:lnTo>
                <a:lnTo>
                  <a:pt x="1404" y="3832"/>
                </a:lnTo>
                <a:lnTo>
                  <a:pt x="1404" y="4004"/>
                </a:lnTo>
                <a:lnTo>
                  <a:pt x="1409" y="4178"/>
                </a:lnTo>
                <a:lnTo>
                  <a:pt x="1417" y="4351"/>
                </a:lnTo>
                <a:lnTo>
                  <a:pt x="1430" y="4524"/>
                </a:lnTo>
                <a:lnTo>
                  <a:pt x="1447" y="4697"/>
                </a:lnTo>
                <a:lnTo>
                  <a:pt x="1469" y="4868"/>
                </a:lnTo>
                <a:lnTo>
                  <a:pt x="1493" y="5040"/>
                </a:lnTo>
                <a:lnTo>
                  <a:pt x="1523" y="5209"/>
                </a:lnTo>
                <a:lnTo>
                  <a:pt x="1556" y="5378"/>
                </a:lnTo>
                <a:lnTo>
                  <a:pt x="1593" y="5544"/>
                </a:lnTo>
                <a:lnTo>
                  <a:pt x="1634" y="5707"/>
                </a:lnTo>
                <a:lnTo>
                  <a:pt x="1678" y="5869"/>
                </a:lnTo>
                <a:lnTo>
                  <a:pt x="1727" y="6028"/>
                </a:lnTo>
                <a:lnTo>
                  <a:pt x="1778" y="6183"/>
                </a:lnTo>
                <a:lnTo>
                  <a:pt x="1834" y="6336"/>
                </a:lnTo>
                <a:lnTo>
                  <a:pt x="1892" y="6485"/>
                </a:lnTo>
                <a:lnTo>
                  <a:pt x="1954" y="6629"/>
                </a:lnTo>
                <a:lnTo>
                  <a:pt x="2020" y="6770"/>
                </a:lnTo>
                <a:lnTo>
                  <a:pt x="2089" y="6906"/>
                </a:lnTo>
                <a:lnTo>
                  <a:pt x="2161" y="7038"/>
                </a:lnTo>
                <a:lnTo>
                  <a:pt x="2237" y="7165"/>
                </a:lnTo>
                <a:lnTo>
                  <a:pt x="2315" y="7285"/>
                </a:lnTo>
                <a:lnTo>
                  <a:pt x="2396" y="7402"/>
                </a:lnTo>
                <a:lnTo>
                  <a:pt x="2480" y="7511"/>
                </a:lnTo>
                <a:lnTo>
                  <a:pt x="2568" y="7614"/>
                </a:lnTo>
                <a:lnTo>
                  <a:pt x="2516" y="7647"/>
                </a:lnTo>
                <a:lnTo>
                  <a:pt x="2463" y="7679"/>
                </a:lnTo>
                <a:lnTo>
                  <a:pt x="2409" y="7709"/>
                </a:lnTo>
                <a:lnTo>
                  <a:pt x="2354" y="7737"/>
                </a:lnTo>
                <a:lnTo>
                  <a:pt x="2298" y="7765"/>
                </a:lnTo>
                <a:lnTo>
                  <a:pt x="2240" y="7790"/>
                </a:lnTo>
                <a:lnTo>
                  <a:pt x="2183" y="7815"/>
                </a:lnTo>
                <a:lnTo>
                  <a:pt x="2124" y="7838"/>
                </a:lnTo>
                <a:lnTo>
                  <a:pt x="2064" y="7859"/>
                </a:lnTo>
                <a:lnTo>
                  <a:pt x="2004" y="7879"/>
                </a:lnTo>
                <a:lnTo>
                  <a:pt x="1943" y="7898"/>
                </a:lnTo>
                <a:lnTo>
                  <a:pt x="1882" y="7916"/>
                </a:lnTo>
                <a:lnTo>
                  <a:pt x="1820" y="7932"/>
                </a:lnTo>
                <a:lnTo>
                  <a:pt x="1759" y="7947"/>
                </a:lnTo>
                <a:lnTo>
                  <a:pt x="1696" y="7961"/>
                </a:lnTo>
                <a:lnTo>
                  <a:pt x="1634" y="7973"/>
                </a:lnTo>
                <a:lnTo>
                  <a:pt x="1571" y="7985"/>
                </a:lnTo>
                <a:lnTo>
                  <a:pt x="1508" y="7996"/>
                </a:lnTo>
                <a:lnTo>
                  <a:pt x="1446" y="8004"/>
                </a:lnTo>
                <a:lnTo>
                  <a:pt x="1383" y="8013"/>
                </a:lnTo>
                <a:lnTo>
                  <a:pt x="1321" y="8019"/>
                </a:lnTo>
                <a:lnTo>
                  <a:pt x="1259" y="8025"/>
                </a:lnTo>
                <a:lnTo>
                  <a:pt x="1197" y="8029"/>
                </a:lnTo>
                <a:lnTo>
                  <a:pt x="1136" y="8034"/>
                </a:lnTo>
                <a:lnTo>
                  <a:pt x="1075" y="8036"/>
                </a:lnTo>
                <a:lnTo>
                  <a:pt x="1015" y="8038"/>
                </a:lnTo>
                <a:lnTo>
                  <a:pt x="955" y="8038"/>
                </a:lnTo>
                <a:lnTo>
                  <a:pt x="897" y="8038"/>
                </a:lnTo>
                <a:lnTo>
                  <a:pt x="838" y="8037"/>
                </a:lnTo>
                <a:lnTo>
                  <a:pt x="781" y="8035"/>
                </a:lnTo>
                <a:lnTo>
                  <a:pt x="724" y="8032"/>
                </a:lnTo>
                <a:lnTo>
                  <a:pt x="669" y="8027"/>
                </a:lnTo>
                <a:lnTo>
                  <a:pt x="604" y="7890"/>
                </a:lnTo>
                <a:lnTo>
                  <a:pt x="541" y="7748"/>
                </a:lnTo>
                <a:lnTo>
                  <a:pt x="483" y="7604"/>
                </a:lnTo>
                <a:lnTo>
                  <a:pt x="428" y="7456"/>
                </a:lnTo>
                <a:lnTo>
                  <a:pt x="377" y="7305"/>
                </a:lnTo>
                <a:lnTo>
                  <a:pt x="330" y="7152"/>
                </a:lnTo>
                <a:lnTo>
                  <a:pt x="287" y="6995"/>
                </a:lnTo>
                <a:lnTo>
                  <a:pt x="248" y="6836"/>
                </a:lnTo>
                <a:lnTo>
                  <a:pt x="214" y="6674"/>
                </a:lnTo>
                <a:lnTo>
                  <a:pt x="184" y="6510"/>
                </a:lnTo>
                <a:lnTo>
                  <a:pt x="158" y="6344"/>
                </a:lnTo>
                <a:lnTo>
                  <a:pt x="137" y="6176"/>
                </a:lnTo>
                <a:lnTo>
                  <a:pt x="120" y="6005"/>
                </a:lnTo>
                <a:lnTo>
                  <a:pt x="109" y="5833"/>
                </a:lnTo>
                <a:lnTo>
                  <a:pt x="101" y="5658"/>
                </a:lnTo>
                <a:lnTo>
                  <a:pt x="100" y="5482"/>
                </a:lnTo>
                <a:lnTo>
                  <a:pt x="103" y="5304"/>
                </a:lnTo>
                <a:lnTo>
                  <a:pt x="111" y="5126"/>
                </a:lnTo>
                <a:lnTo>
                  <a:pt x="124" y="4946"/>
                </a:lnTo>
                <a:lnTo>
                  <a:pt x="144" y="4764"/>
                </a:lnTo>
                <a:lnTo>
                  <a:pt x="168" y="4581"/>
                </a:lnTo>
                <a:lnTo>
                  <a:pt x="197" y="4398"/>
                </a:lnTo>
                <a:lnTo>
                  <a:pt x="233" y="4213"/>
                </a:lnTo>
                <a:lnTo>
                  <a:pt x="275" y="4028"/>
                </a:lnTo>
                <a:lnTo>
                  <a:pt x="322" y="3842"/>
                </a:lnTo>
                <a:lnTo>
                  <a:pt x="375" y="3656"/>
                </a:lnTo>
                <a:lnTo>
                  <a:pt x="434" y="3470"/>
                </a:lnTo>
                <a:lnTo>
                  <a:pt x="500" y="3282"/>
                </a:lnTo>
                <a:lnTo>
                  <a:pt x="572" y="3095"/>
                </a:lnTo>
                <a:lnTo>
                  <a:pt x="650" y="2909"/>
                </a:lnTo>
                <a:lnTo>
                  <a:pt x="735" y="2721"/>
                </a:lnTo>
                <a:lnTo>
                  <a:pt x="826" y="2535"/>
                </a:lnTo>
                <a:lnTo>
                  <a:pt x="835" y="2515"/>
                </a:lnTo>
                <a:lnTo>
                  <a:pt x="841" y="2497"/>
                </a:lnTo>
                <a:lnTo>
                  <a:pt x="842" y="2479"/>
                </a:lnTo>
                <a:lnTo>
                  <a:pt x="838" y="2463"/>
                </a:lnTo>
                <a:lnTo>
                  <a:pt x="832" y="2448"/>
                </a:lnTo>
                <a:lnTo>
                  <a:pt x="823" y="2434"/>
                </a:lnTo>
                <a:lnTo>
                  <a:pt x="810" y="2422"/>
                </a:lnTo>
                <a:lnTo>
                  <a:pt x="794" y="2410"/>
                </a:lnTo>
                <a:lnTo>
                  <a:pt x="776" y="2401"/>
                </a:lnTo>
                <a:lnTo>
                  <a:pt x="755" y="2392"/>
                </a:lnTo>
                <a:lnTo>
                  <a:pt x="732" y="2385"/>
                </a:lnTo>
                <a:lnTo>
                  <a:pt x="706" y="2379"/>
                </a:lnTo>
                <a:lnTo>
                  <a:pt x="678" y="2375"/>
                </a:lnTo>
                <a:lnTo>
                  <a:pt x="648" y="2372"/>
                </a:lnTo>
                <a:lnTo>
                  <a:pt x="617" y="2371"/>
                </a:lnTo>
                <a:lnTo>
                  <a:pt x="585" y="2371"/>
                </a:lnTo>
                <a:lnTo>
                  <a:pt x="551" y="2373"/>
                </a:lnTo>
                <a:lnTo>
                  <a:pt x="517" y="2377"/>
                </a:lnTo>
                <a:lnTo>
                  <a:pt x="481" y="2383"/>
                </a:lnTo>
                <a:lnTo>
                  <a:pt x="445" y="2390"/>
                </a:lnTo>
                <a:lnTo>
                  <a:pt x="408" y="2400"/>
                </a:lnTo>
                <a:lnTo>
                  <a:pt x="371" y="2410"/>
                </a:lnTo>
                <a:lnTo>
                  <a:pt x="334" y="2423"/>
                </a:lnTo>
                <a:lnTo>
                  <a:pt x="298" y="2438"/>
                </a:lnTo>
                <a:lnTo>
                  <a:pt x="261" y="2454"/>
                </a:lnTo>
                <a:lnTo>
                  <a:pt x="225" y="2473"/>
                </a:lnTo>
                <a:lnTo>
                  <a:pt x="190" y="2493"/>
                </a:lnTo>
                <a:lnTo>
                  <a:pt x="156" y="2516"/>
                </a:lnTo>
                <a:lnTo>
                  <a:pt x="123" y="2540"/>
                </a:lnTo>
                <a:lnTo>
                  <a:pt x="91" y="2567"/>
                </a:lnTo>
                <a:lnTo>
                  <a:pt x="61" y="2596"/>
                </a:lnTo>
                <a:lnTo>
                  <a:pt x="32" y="2627"/>
                </a:lnTo>
                <a:lnTo>
                  <a:pt x="12" y="2605"/>
                </a:lnTo>
                <a:lnTo>
                  <a:pt x="2" y="2575"/>
                </a:lnTo>
                <a:lnTo>
                  <a:pt x="0" y="2538"/>
                </a:lnTo>
                <a:lnTo>
                  <a:pt x="5" y="2495"/>
                </a:lnTo>
                <a:lnTo>
                  <a:pt x="19" y="2444"/>
                </a:lnTo>
                <a:lnTo>
                  <a:pt x="41" y="2387"/>
                </a:lnTo>
                <a:lnTo>
                  <a:pt x="69" y="2324"/>
                </a:lnTo>
                <a:lnTo>
                  <a:pt x="105" y="2257"/>
                </a:lnTo>
                <a:lnTo>
                  <a:pt x="148" y="2184"/>
                </a:lnTo>
                <a:lnTo>
                  <a:pt x="197" y="2105"/>
                </a:lnTo>
                <a:lnTo>
                  <a:pt x="252" y="2024"/>
                </a:lnTo>
                <a:lnTo>
                  <a:pt x="314" y="1938"/>
                </a:lnTo>
                <a:lnTo>
                  <a:pt x="382" y="1848"/>
                </a:lnTo>
                <a:lnTo>
                  <a:pt x="453" y="1756"/>
                </a:lnTo>
                <a:lnTo>
                  <a:pt x="532" y="1661"/>
                </a:lnTo>
                <a:lnTo>
                  <a:pt x="614" y="1562"/>
                </a:lnTo>
                <a:lnTo>
                  <a:pt x="701" y="1463"/>
                </a:lnTo>
                <a:lnTo>
                  <a:pt x="792" y="1362"/>
                </a:lnTo>
                <a:lnTo>
                  <a:pt x="887" y="1259"/>
                </a:lnTo>
                <a:lnTo>
                  <a:pt x="985" y="1157"/>
                </a:lnTo>
                <a:lnTo>
                  <a:pt x="1088" y="1053"/>
                </a:lnTo>
                <a:lnTo>
                  <a:pt x="1193" y="949"/>
                </a:lnTo>
                <a:lnTo>
                  <a:pt x="1301" y="846"/>
                </a:lnTo>
                <a:lnTo>
                  <a:pt x="1412" y="744"/>
                </a:lnTo>
                <a:lnTo>
                  <a:pt x="1525" y="643"/>
                </a:lnTo>
                <a:lnTo>
                  <a:pt x="1639" y="544"/>
                </a:lnTo>
                <a:lnTo>
                  <a:pt x="1755" y="445"/>
                </a:lnTo>
                <a:lnTo>
                  <a:pt x="1874" y="350"/>
                </a:lnTo>
                <a:lnTo>
                  <a:pt x="1992" y="258"/>
                </a:lnTo>
                <a:lnTo>
                  <a:pt x="2112" y="168"/>
                </a:lnTo>
                <a:lnTo>
                  <a:pt x="2232" y="82"/>
                </a:lnTo>
                <a:lnTo>
                  <a:pt x="2353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…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4760" y="270036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276720"/>
            <a:ext cx="4114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ré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général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2700360"/>
            <a:ext cx="228600" cy="2023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700360"/>
            <a:ext cx="838080" cy="3243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6920" y="117324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42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lyc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1520" y="199548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8640" y="4876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llè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78160" y="6095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é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117560" y="3713760"/>
            <a:ext cx="873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9F43-8FDB-4A8F-B802-0495B5B80C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organisation administrative de l’État et en comprendre les évolution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a Fonction publique d’État, et au sein du ME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établissement, en ayant conscience des particularités du supéri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voir une vision d’ensemble de nos missions et responsabil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DRAPEAU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form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40B9-9449-430C-8631-1EFA24C5F0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9360" y="4152960"/>
            <a:ext cx="1539720" cy="342720"/>
          </a:xfrm>
          <a:custGeom>
            <a:avLst/>
            <a:gdLst/>
            <a:ahLst/>
            <a:rect l="l" t="t" r="r" b="b"/>
            <a:pathLst>
              <a:path w="2909" h="1325">
                <a:moveTo>
                  <a:pt x="1455" y="0"/>
                </a:moveTo>
                <a:lnTo>
                  <a:pt x="1506" y="1"/>
                </a:lnTo>
                <a:lnTo>
                  <a:pt x="1556" y="5"/>
                </a:lnTo>
                <a:lnTo>
                  <a:pt x="1606" y="11"/>
                </a:lnTo>
                <a:lnTo>
                  <a:pt x="1653" y="18"/>
                </a:lnTo>
                <a:lnTo>
                  <a:pt x="1699" y="27"/>
                </a:lnTo>
                <a:lnTo>
                  <a:pt x="1743" y="39"/>
                </a:lnTo>
                <a:lnTo>
                  <a:pt x="1786" y="51"/>
                </a:lnTo>
                <a:lnTo>
                  <a:pt x="1828" y="66"/>
                </a:lnTo>
                <a:lnTo>
                  <a:pt x="1869" y="82"/>
                </a:lnTo>
                <a:lnTo>
                  <a:pt x="1908" y="99"/>
                </a:lnTo>
                <a:lnTo>
                  <a:pt x="1947" y="118"/>
                </a:lnTo>
                <a:lnTo>
                  <a:pt x="1984" y="138"/>
                </a:lnTo>
                <a:lnTo>
                  <a:pt x="2021" y="159"/>
                </a:lnTo>
                <a:lnTo>
                  <a:pt x="2057" y="180"/>
                </a:lnTo>
                <a:lnTo>
                  <a:pt x="2092" y="204"/>
                </a:lnTo>
                <a:lnTo>
                  <a:pt x="2125" y="226"/>
                </a:lnTo>
                <a:lnTo>
                  <a:pt x="2158" y="250"/>
                </a:lnTo>
                <a:lnTo>
                  <a:pt x="2191" y="275"/>
                </a:lnTo>
                <a:lnTo>
                  <a:pt x="2223" y="299"/>
                </a:lnTo>
                <a:lnTo>
                  <a:pt x="2255" y="324"/>
                </a:lnTo>
                <a:lnTo>
                  <a:pt x="2285" y="350"/>
                </a:lnTo>
                <a:lnTo>
                  <a:pt x="2316" y="374"/>
                </a:lnTo>
                <a:lnTo>
                  <a:pt x="2346" y="400"/>
                </a:lnTo>
                <a:lnTo>
                  <a:pt x="2376" y="425"/>
                </a:lnTo>
                <a:lnTo>
                  <a:pt x="2405" y="449"/>
                </a:lnTo>
                <a:lnTo>
                  <a:pt x="2435" y="474"/>
                </a:lnTo>
                <a:lnTo>
                  <a:pt x="2464" y="497"/>
                </a:lnTo>
                <a:lnTo>
                  <a:pt x="2492" y="519"/>
                </a:lnTo>
                <a:lnTo>
                  <a:pt x="2521" y="543"/>
                </a:lnTo>
                <a:lnTo>
                  <a:pt x="2550" y="564"/>
                </a:lnTo>
                <a:lnTo>
                  <a:pt x="2580" y="584"/>
                </a:lnTo>
                <a:lnTo>
                  <a:pt x="2608" y="604"/>
                </a:lnTo>
                <a:lnTo>
                  <a:pt x="2730" y="363"/>
                </a:lnTo>
                <a:lnTo>
                  <a:pt x="2909" y="1123"/>
                </a:lnTo>
                <a:lnTo>
                  <a:pt x="2243" y="1324"/>
                </a:lnTo>
                <a:lnTo>
                  <a:pt x="2365" y="1084"/>
                </a:lnTo>
                <a:lnTo>
                  <a:pt x="2337" y="1066"/>
                </a:lnTo>
                <a:lnTo>
                  <a:pt x="2308" y="1046"/>
                </a:lnTo>
                <a:lnTo>
                  <a:pt x="2279" y="1026"/>
                </a:lnTo>
                <a:lnTo>
                  <a:pt x="2251" y="1006"/>
                </a:lnTo>
                <a:lnTo>
                  <a:pt x="2222" y="985"/>
                </a:lnTo>
                <a:lnTo>
                  <a:pt x="2194" y="965"/>
                </a:lnTo>
                <a:lnTo>
                  <a:pt x="2165" y="945"/>
                </a:lnTo>
                <a:lnTo>
                  <a:pt x="2138" y="924"/>
                </a:lnTo>
                <a:lnTo>
                  <a:pt x="2109" y="904"/>
                </a:lnTo>
                <a:lnTo>
                  <a:pt x="2081" y="884"/>
                </a:lnTo>
                <a:lnTo>
                  <a:pt x="2054" y="864"/>
                </a:lnTo>
                <a:lnTo>
                  <a:pt x="2026" y="844"/>
                </a:lnTo>
                <a:lnTo>
                  <a:pt x="1998" y="825"/>
                </a:lnTo>
                <a:lnTo>
                  <a:pt x="1970" y="806"/>
                </a:lnTo>
                <a:lnTo>
                  <a:pt x="1942" y="787"/>
                </a:lnTo>
                <a:lnTo>
                  <a:pt x="1914" y="770"/>
                </a:lnTo>
                <a:lnTo>
                  <a:pt x="1886" y="752"/>
                </a:lnTo>
                <a:lnTo>
                  <a:pt x="1858" y="736"/>
                </a:lnTo>
                <a:lnTo>
                  <a:pt x="1829" y="719"/>
                </a:lnTo>
                <a:lnTo>
                  <a:pt x="1800" y="704"/>
                </a:lnTo>
                <a:lnTo>
                  <a:pt x="1772" y="690"/>
                </a:lnTo>
                <a:lnTo>
                  <a:pt x="1743" y="677"/>
                </a:lnTo>
                <a:lnTo>
                  <a:pt x="1714" y="664"/>
                </a:lnTo>
                <a:lnTo>
                  <a:pt x="1685" y="653"/>
                </a:lnTo>
                <a:lnTo>
                  <a:pt x="1656" y="643"/>
                </a:lnTo>
                <a:lnTo>
                  <a:pt x="1626" y="634"/>
                </a:lnTo>
                <a:lnTo>
                  <a:pt x="1596" y="626"/>
                </a:lnTo>
                <a:lnTo>
                  <a:pt x="1566" y="619"/>
                </a:lnTo>
                <a:lnTo>
                  <a:pt x="1535" y="614"/>
                </a:lnTo>
                <a:lnTo>
                  <a:pt x="1504" y="611"/>
                </a:lnTo>
                <a:lnTo>
                  <a:pt x="1473" y="608"/>
                </a:lnTo>
                <a:lnTo>
                  <a:pt x="1442" y="607"/>
                </a:lnTo>
                <a:lnTo>
                  <a:pt x="1410" y="608"/>
                </a:lnTo>
                <a:lnTo>
                  <a:pt x="1379" y="611"/>
                </a:lnTo>
                <a:lnTo>
                  <a:pt x="1348" y="614"/>
                </a:lnTo>
                <a:lnTo>
                  <a:pt x="1318" y="619"/>
                </a:lnTo>
                <a:lnTo>
                  <a:pt x="1288" y="626"/>
                </a:lnTo>
                <a:lnTo>
                  <a:pt x="1259" y="634"/>
                </a:lnTo>
                <a:lnTo>
                  <a:pt x="1229" y="643"/>
                </a:lnTo>
                <a:lnTo>
                  <a:pt x="1201" y="654"/>
                </a:lnTo>
                <a:lnTo>
                  <a:pt x="1173" y="664"/>
                </a:lnTo>
                <a:lnTo>
                  <a:pt x="1145" y="677"/>
                </a:lnTo>
                <a:lnTo>
                  <a:pt x="1117" y="691"/>
                </a:lnTo>
                <a:lnTo>
                  <a:pt x="1090" y="705"/>
                </a:lnTo>
                <a:lnTo>
                  <a:pt x="1062" y="720"/>
                </a:lnTo>
                <a:lnTo>
                  <a:pt x="1036" y="736"/>
                </a:lnTo>
                <a:lnTo>
                  <a:pt x="1008" y="753"/>
                </a:lnTo>
                <a:lnTo>
                  <a:pt x="981" y="771"/>
                </a:lnTo>
                <a:lnTo>
                  <a:pt x="955" y="788"/>
                </a:lnTo>
                <a:lnTo>
                  <a:pt x="928" y="807"/>
                </a:lnTo>
                <a:lnTo>
                  <a:pt x="901" y="826"/>
                </a:lnTo>
                <a:lnTo>
                  <a:pt x="875" y="846"/>
                </a:lnTo>
                <a:lnTo>
                  <a:pt x="848" y="864"/>
                </a:lnTo>
                <a:lnTo>
                  <a:pt x="821" y="884"/>
                </a:lnTo>
                <a:lnTo>
                  <a:pt x="795" y="905"/>
                </a:lnTo>
                <a:lnTo>
                  <a:pt x="768" y="925"/>
                </a:lnTo>
                <a:lnTo>
                  <a:pt x="740" y="946"/>
                </a:lnTo>
                <a:lnTo>
                  <a:pt x="714" y="966"/>
                </a:lnTo>
                <a:lnTo>
                  <a:pt x="686" y="986"/>
                </a:lnTo>
                <a:lnTo>
                  <a:pt x="658" y="1007"/>
                </a:lnTo>
                <a:lnTo>
                  <a:pt x="631" y="1027"/>
                </a:lnTo>
                <a:lnTo>
                  <a:pt x="602" y="1047"/>
                </a:lnTo>
                <a:lnTo>
                  <a:pt x="573" y="1067"/>
                </a:lnTo>
                <a:lnTo>
                  <a:pt x="545" y="1085"/>
                </a:lnTo>
                <a:lnTo>
                  <a:pt x="666" y="1325"/>
                </a:lnTo>
                <a:lnTo>
                  <a:pt x="0" y="1124"/>
                </a:lnTo>
                <a:lnTo>
                  <a:pt x="180" y="364"/>
                </a:lnTo>
                <a:lnTo>
                  <a:pt x="302" y="605"/>
                </a:lnTo>
                <a:lnTo>
                  <a:pt x="330" y="585"/>
                </a:lnTo>
                <a:lnTo>
                  <a:pt x="360" y="565"/>
                </a:lnTo>
                <a:lnTo>
                  <a:pt x="389" y="543"/>
                </a:lnTo>
                <a:lnTo>
                  <a:pt x="418" y="520"/>
                </a:lnTo>
                <a:lnTo>
                  <a:pt x="446" y="498"/>
                </a:lnTo>
                <a:lnTo>
                  <a:pt x="475" y="474"/>
                </a:lnTo>
                <a:lnTo>
                  <a:pt x="505" y="450"/>
                </a:lnTo>
                <a:lnTo>
                  <a:pt x="534" y="426"/>
                </a:lnTo>
                <a:lnTo>
                  <a:pt x="564" y="400"/>
                </a:lnTo>
                <a:lnTo>
                  <a:pt x="594" y="375"/>
                </a:lnTo>
                <a:lnTo>
                  <a:pt x="624" y="350"/>
                </a:lnTo>
                <a:lnTo>
                  <a:pt x="655" y="325"/>
                </a:lnTo>
                <a:lnTo>
                  <a:pt x="686" y="299"/>
                </a:lnTo>
                <a:lnTo>
                  <a:pt x="718" y="275"/>
                </a:lnTo>
                <a:lnTo>
                  <a:pt x="751" y="250"/>
                </a:lnTo>
                <a:lnTo>
                  <a:pt x="785" y="227"/>
                </a:lnTo>
                <a:lnTo>
                  <a:pt x="818" y="204"/>
                </a:lnTo>
                <a:lnTo>
                  <a:pt x="853" y="181"/>
                </a:lnTo>
                <a:lnTo>
                  <a:pt x="888" y="159"/>
                </a:lnTo>
                <a:lnTo>
                  <a:pt x="925" y="138"/>
                </a:lnTo>
                <a:lnTo>
                  <a:pt x="963" y="118"/>
                </a:lnTo>
                <a:lnTo>
                  <a:pt x="1001" y="99"/>
                </a:lnTo>
                <a:lnTo>
                  <a:pt x="1041" y="82"/>
                </a:lnTo>
                <a:lnTo>
                  <a:pt x="1082" y="67"/>
                </a:lnTo>
                <a:lnTo>
                  <a:pt x="1124" y="51"/>
                </a:lnTo>
                <a:lnTo>
                  <a:pt x="1167" y="39"/>
                </a:lnTo>
                <a:lnTo>
                  <a:pt x="1211" y="27"/>
                </a:lnTo>
                <a:lnTo>
                  <a:pt x="1257" y="18"/>
                </a:lnTo>
                <a:lnTo>
                  <a:pt x="1304" y="11"/>
                </a:lnTo>
                <a:lnTo>
                  <a:pt x="1352" y="5"/>
                </a:lnTo>
                <a:lnTo>
                  <a:pt x="1403" y="1"/>
                </a:lnTo>
                <a:lnTo>
                  <a:pt x="1455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672000"/>
            <a:ext cx="472464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à des institutions spécialis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197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Établissements public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 les universités pour ce qui concerne le service public de l’enseignement supéri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520" y="230040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96840" y="2971800"/>
            <a:ext cx="51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ou bien, dans des matières bien particulières,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1440" y="4218120"/>
            <a:ext cx="1552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6560" y="4419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utorités administratives indépendant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CSA, Conseil supérieur de l’audiovisuel, ou encore la CN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F530-5980-4216-9203-11350CFEE0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7" name="plan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209680" cy="26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13F2-39E0-4C1F-B457-488835929E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: schéma général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057400"/>
            <a:ext cx="525780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76640" y="2895480"/>
            <a:ext cx="49532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65600" y="3809880"/>
            <a:ext cx="447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8920" y="4800600"/>
            <a:ext cx="738648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autorités agissant au nom de l’É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89240" y="5715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sidents des universit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ar exemple, dans le domaine de la GR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86400" y="1940400"/>
            <a:ext cx="2153160" cy="2672640"/>
            <a:chOff x="986400" y="1940400"/>
            <a:chExt cx="2153160" cy="2672640"/>
          </a:xfrm>
        </p:grpSpPr>
        <p:sp>
          <p:nvSpPr>
            <p:cNvPr id="196" name=""/>
            <p:cNvSpPr/>
            <p:nvPr/>
          </p:nvSpPr>
          <p:spPr>
            <a:xfrm flipH="1" rot="9120600">
              <a:off x="1598400" y="1904760"/>
              <a:ext cx="533880" cy="274320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6410400">
              <a:off x="2008080" y="1619280"/>
              <a:ext cx="509400" cy="167652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0686-764A-4F7F-89CD-655F6D733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371600"/>
            <a:ext cx="9296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sont redistribuées ent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L’É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entralisées,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oncentr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personnes morales distinctes de l’État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représentants locaux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collectivités territoriales ;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’État agissant en son nom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établissements publics ;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services déconcentrés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autorités administratives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autres autorités agissa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ndépendantes.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  au nom de l’Ét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3040" y="76320"/>
            <a:ext cx="808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écentraliser – Déconcentrer : </a:t>
            </a:r>
            <a:br>
              <a:rPr sz="3600"/>
            </a:b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a complémentar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3335400">
            <a:off x="3085560" y="2171880"/>
            <a:ext cx="914400" cy="2057400"/>
          </a:xfrm>
          <a:custGeom>
            <a:avLst/>
            <a:gdLst/>
            <a:ahLst/>
            <a:rect l="l" t="t" r="r" b="b"/>
            <a:pathLst>
              <a:path w="863" h="1488">
                <a:moveTo>
                  <a:pt x="431" y="0"/>
                </a:moveTo>
                <a:lnTo>
                  <a:pt x="639" y="0"/>
                </a:lnTo>
                <a:lnTo>
                  <a:pt x="633" y="32"/>
                </a:lnTo>
                <a:lnTo>
                  <a:pt x="627" y="63"/>
                </a:lnTo>
                <a:lnTo>
                  <a:pt x="621" y="94"/>
                </a:lnTo>
                <a:lnTo>
                  <a:pt x="615" y="125"/>
                </a:lnTo>
                <a:lnTo>
                  <a:pt x="609" y="156"/>
                </a:lnTo>
                <a:lnTo>
                  <a:pt x="604" y="186"/>
                </a:lnTo>
                <a:lnTo>
                  <a:pt x="598" y="216"/>
                </a:lnTo>
                <a:lnTo>
                  <a:pt x="593" y="247"/>
                </a:lnTo>
                <a:lnTo>
                  <a:pt x="587" y="276"/>
                </a:lnTo>
                <a:lnTo>
                  <a:pt x="582" y="306"/>
                </a:lnTo>
                <a:lnTo>
                  <a:pt x="577" y="336"/>
                </a:lnTo>
                <a:lnTo>
                  <a:pt x="572" y="366"/>
                </a:lnTo>
                <a:lnTo>
                  <a:pt x="567" y="396"/>
                </a:lnTo>
                <a:lnTo>
                  <a:pt x="563" y="426"/>
                </a:lnTo>
                <a:lnTo>
                  <a:pt x="558" y="457"/>
                </a:lnTo>
                <a:lnTo>
                  <a:pt x="554" y="487"/>
                </a:lnTo>
                <a:lnTo>
                  <a:pt x="549" y="517"/>
                </a:lnTo>
                <a:lnTo>
                  <a:pt x="545" y="548"/>
                </a:lnTo>
                <a:lnTo>
                  <a:pt x="541" y="579"/>
                </a:lnTo>
                <a:lnTo>
                  <a:pt x="537" y="610"/>
                </a:lnTo>
                <a:lnTo>
                  <a:pt x="533" y="642"/>
                </a:lnTo>
                <a:lnTo>
                  <a:pt x="529" y="674"/>
                </a:lnTo>
                <a:lnTo>
                  <a:pt x="526" y="706"/>
                </a:lnTo>
                <a:lnTo>
                  <a:pt x="522" y="739"/>
                </a:lnTo>
                <a:lnTo>
                  <a:pt x="519" y="772"/>
                </a:lnTo>
                <a:lnTo>
                  <a:pt x="516" y="806"/>
                </a:lnTo>
                <a:lnTo>
                  <a:pt x="513" y="840"/>
                </a:lnTo>
                <a:lnTo>
                  <a:pt x="510" y="875"/>
                </a:lnTo>
                <a:lnTo>
                  <a:pt x="507" y="911"/>
                </a:lnTo>
                <a:lnTo>
                  <a:pt x="504" y="947"/>
                </a:lnTo>
                <a:lnTo>
                  <a:pt x="502" y="984"/>
                </a:lnTo>
                <a:lnTo>
                  <a:pt x="499" y="1021"/>
                </a:lnTo>
                <a:lnTo>
                  <a:pt x="762" y="1021"/>
                </a:lnTo>
                <a:lnTo>
                  <a:pt x="762" y="970"/>
                </a:lnTo>
                <a:lnTo>
                  <a:pt x="863" y="1072"/>
                </a:lnTo>
                <a:lnTo>
                  <a:pt x="762" y="1173"/>
                </a:lnTo>
                <a:lnTo>
                  <a:pt x="762" y="1121"/>
                </a:lnTo>
                <a:lnTo>
                  <a:pt x="559" y="1121"/>
                </a:lnTo>
                <a:lnTo>
                  <a:pt x="698" y="1261"/>
                </a:lnTo>
                <a:lnTo>
                  <a:pt x="733" y="1225"/>
                </a:lnTo>
                <a:lnTo>
                  <a:pt x="733" y="1369"/>
                </a:lnTo>
                <a:lnTo>
                  <a:pt x="591" y="1368"/>
                </a:lnTo>
                <a:lnTo>
                  <a:pt x="626" y="1332"/>
                </a:lnTo>
                <a:lnTo>
                  <a:pt x="480" y="1184"/>
                </a:lnTo>
                <a:lnTo>
                  <a:pt x="481" y="1386"/>
                </a:lnTo>
                <a:lnTo>
                  <a:pt x="532" y="1386"/>
                </a:lnTo>
                <a:lnTo>
                  <a:pt x="431" y="1488"/>
                </a:lnTo>
                <a:lnTo>
                  <a:pt x="331" y="1386"/>
                </a:lnTo>
                <a:lnTo>
                  <a:pt x="382" y="1386"/>
                </a:lnTo>
                <a:lnTo>
                  <a:pt x="383" y="1184"/>
                </a:lnTo>
                <a:lnTo>
                  <a:pt x="236" y="1332"/>
                </a:lnTo>
                <a:lnTo>
                  <a:pt x="272" y="1368"/>
                </a:lnTo>
                <a:lnTo>
                  <a:pt x="130" y="1369"/>
                </a:lnTo>
                <a:lnTo>
                  <a:pt x="130" y="1225"/>
                </a:lnTo>
                <a:lnTo>
                  <a:pt x="165" y="1261"/>
                </a:lnTo>
                <a:lnTo>
                  <a:pt x="303" y="1121"/>
                </a:lnTo>
                <a:lnTo>
                  <a:pt x="101" y="1121"/>
                </a:lnTo>
                <a:lnTo>
                  <a:pt x="101" y="1173"/>
                </a:lnTo>
                <a:lnTo>
                  <a:pt x="0" y="1072"/>
                </a:lnTo>
                <a:lnTo>
                  <a:pt x="101" y="970"/>
                </a:lnTo>
                <a:lnTo>
                  <a:pt x="101" y="1021"/>
                </a:lnTo>
                <a:lnTo>
                  <a:pt x="364" y="1021"/>
                </a:lnTo>
                <a:lnTo>
                  <a:pt x="361" y="984"/>
                </a:lnTo>
                <a:lnTo>
                  <a:pt x="359" y="947"/>
                </a:lnTo>
                <a:lnTo>
                  <a:pt x="356" y="911"/>
                </a:lnTo>
                <a:lnTo>
                  <a:pt x="353" y="875"/>
                </a:lnTo>
                <a:lnTo>
                  <a:pt x="350" y="840"/>
                </a:lnTo>
                <a:lnTo>
                  <a:pt x="347" y="806"/>
                </a:lnTo>
                <a:lnTo>
                  <a:pt x="344" y="772"/>
                </a:lnTo>
                <a:lnTo>
                  <a:pt x="341" y="739"/>
                </a:lnTo>
                <a:lnTo>
                  <a:pt x="337" y="706"/>
                </a:lnTo>
                <a:lnTo>
                  <a:pt x="334" y="674"/>
                </a:lnTo>
                <a:lnTo>
                  <a:pt x="330" y="642"/>
                </a:lnTo>
                <a:lnTo>
                  <a:pt x="326" y="610"/>
                </a:lnTo>
                <a:lnTo>
                  <a:pt x="322" y="579"/>
                </a:lnTo>
                <a:lnTo>
                  <a:pt x="318" y="548"/>
                </a:lnTo>
                <a:lnTo>
                  <a:pt x="314" y="517"/>
                </a:lnTo>
                <a:lnTo>
                  <a:pt x="309" y="487"/>
                </a:lnTo>
                <a:lnTo>
                  <a:pt x="305" y="457"/>
                </a:lnTo>
                <a:lnTo>
                  <a:pt x="300" y="426"/>
                </a:lnTo>
                <a:lnTo>
                  <a:pt x="296" y="396"/>
                </a:lnTo>
                <a:lnTo>
                  <a:pt x="291" y="366"/>
                </a:lnTo>
                <a:lnTo>
                  <a:pt x="286" y="336"/>
                </a:lnTo>
                <a:lnTo>
                  <a:pt x="281" y="306"/>
                </a:lnTo>
                <a:lnTo>
                  <a:pt x="275" y="276"/>
                </a:lnTo>
                <a:lnTo>
                  <a:pt x="270" y="247"/>
                </a:lnTo>
                <a:lnTo>
                  <a:pt x="265" y="216"/>
                </a:lnTo>
                <a:lnTo>
                  <a:pt x="259" y="186"/>
                </a:lnTo>
                <a:lnTo>
                  <a:pt x="254" y="156"/>
                </a:lnTo>
                <a:lnTo>
                  <a:pt x="248" y="125"/>
                </a:lnTo>
                <a:lnTo>
                  <a:pt x="242" y="94"/>
                </a:lnTo>
                <a:lnTo>
                  <a:pt x="236" y="63"/>
                </a:lnTo>
                <a:lnTo>
                  <a:pt x="230" y="32"/>
                </a:lnTo>
                <a:lnTo>
                  <a:pt x="224" y="0"/>
                </a:lnTo>
                <a:lnTo>
                  <a:pt x="488" y="57"/>
                </a:lnTo>
              </a:path>
            </a:pathLst>
          </a:custGeom>
          <a:solidFill>
            <a:srgbClr val="ffffff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712000">
            <a:off x="4671720" y="2871720"/>
            <a:ext cx="2033640" cy="782640"/>
          </a:xfrm>
          <a:custGeom>
            <a:avLst/>
            <a:gdLst>
              <a:gd name="textAreaLeft" fmla="*/ 317520 w 2033640"/>
              <a:gd name="textAreaRight" fmla="*/ 1894680 w 2033640"/>
              <a:gd name="textAreaTop" fmla="*/ 256320 h 782640"/>
              <a:gd name="textAreaBottom" fmla="*/ 52632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7071"/>
                </a:moveTo>
                <a:lnTo>
                  <a:pt x="17316" y="7071"/>
                </a:ln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17316" y="14529"/>
                </a:lnTo>
                <a:lnTo>
                  <a:pt x="3375" y="14529"/>
                </a:lnTo>
                <a:close/>
              </a:path>
              <a:path w="21600" h="21600">
                <a:moveTo>
                  <a:pt x="0" y="7071"/>
                </a:moveTo>
                <a:lnTo>
                  <a:pt x="675" y="7071"/>
                </a:lnTo>
                <a:lnTo>
                  <a:pt x="675" y="14529"/>
                </a:lnTo>
                <a:lnTo>
                  <a:pt x="0" y="14529"/>
                </a:lnTo>
                <a:close/>
              </a:path>
              <a:path w="21600" h="21600">
                <a:moveTo>
                  <a:pt x="1350" y="7071"/>
                </a:moveTo>
                <a:lnTo>
                  <a:pt x="2700" y="7071"/>
                </a:lnTo>
                <a:lnTo>
                  <a:pt x="2700" y="14529"/>
                </a:lnTo>
                <a:lnTo>
                  <a:pt x="1350" y="14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CB4D-7631-4EE8-A74B-BF8917F4DB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447920"/>
            <a:ext cx="822960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1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a déconcentration est la règle générale de répartition des attributions et des moyens entre les différents échelons des administrations civiles de l'Ét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2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es administrations centrales assurent au niveau national un rôle de conception, d'animation, d'orientation, d'évaluation et de contrôle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-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1992 - Charte de la dé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277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3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AC5D-5D75-47C6-9E44-358F9E02DB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La déconcentration s’accélère….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Depuis 1992, la redéfinition des compétences et la réorganisation des relations entre administrations centrales et services déconcentrés est un processus contin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FOULE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FOULE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9" name="FOULE" descr=""/>
          <p:cNvPicPr/>
          <p:nvPr/>
        </p:nvPicPr>
        <p:blipFill>
          <a:blip r:embed="rId3"/>
          <a:stretch/>
        </p:blipFill>
        <p:spPr>
          <a:xfrm>
            <a:off x="3505320" y="518940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4BCB-8ADB-4DAC-AF19-55644ABC4F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à l’éducation nationale…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 mouvement est général : en 2001, 32 textes parus au JO sont des délégations de pouvoi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Équipement, transports et lo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mploi et solida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In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4 Économie, finances et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2 Dé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3 Éducation nationale (dont 12 enseignement supérie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en GR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f. Annexe 4)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DCEA-339A-4A8C-9E80-3D11D77241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28960" y="2133720"/>
            <a:ext cx="57240" cy="403848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825720" y="304560"/>
            <a:ext cx="0" cy="99036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1680" y="759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écentraliser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    Déconcentrer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chéma général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1295280"/>
            <a:ext cx="762012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transferts de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5440" y="2209680"/>
            <a:ext cx="60948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049560"/>
            <a:ext cx="4952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90360" y="3581280"/>
            <a:ext cx="15228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4200" y="4680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365640"/>
            <a:ext cx="221004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9800" y="5029200"/>
            <a:ext cx="118728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0360" y="3960720"/>
            <a:ext cx="649440" cy="1184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78360" y="4024080"/>
            <a:ext cx="832680" cy="965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3962520"/>
            <a:ext cx="30492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133720"/>
            <a:ext cx="0" cy="1218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64771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3520" y="640080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Cf. Annexe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286000"/>
            <a:ext cx="15264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142640" y="228600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3120" y="385128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209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58128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81480"/>
            <a:ext cx="0" cy="609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61080" y="571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mais aussi à des maires, des présidents d’université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EF73-6829-4ECA-86E4-14BE045859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920" y="1295280"/>
            <a:ext cx="8534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administrations civiles de l'État se compo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'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els sont les services déconcentrés de l’Éducation national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-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F0DE-DBDD-4322-AD07-C851A62264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’Académie et le Rect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200" y="205740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administration de l’éducation nationale n’obéit pas strictement au schéma général qui vient d’être présen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a circonscription administrative n’est pas la Région mai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’Académ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teur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est nommé à la tête de chaque académ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8656-6BAE-4F9D-BA7C-ECF114C19E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256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conscient de la nécessité des évolutions de nos activ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prendre que ces modifications entraînent des changements d’organisation auxquels nous pouvons contribuer , et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 l’accroissement des responsabilités au niveau de l’établissements du fait notamment de la déconcentration impose un mode de travail collaboratif au sein des services, et parfois au del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DRAPEAU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95280" y="3808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formation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E123-1CC0-49B0-8221-E5AE18821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Un établissement public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au sein de l’administration d’État, dispose d’une certaine autonomi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fférents types d’établissements publics d’enseignement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Les collèges et les lycées (EPLE = établissement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publics locaux d’enseign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 publics d’enseignement supérieu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IUFM (EPA = établissements publics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caractère administratif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Universités (EPSCP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---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62CA-2002-4225-B7F6-35B096A5CF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Décentraliser 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  Déconcentr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295280"/>
            <a:ext cx="746748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Times New Roman"/>
              </a:rPr>
              <a:t>Le ministre de l’éducation nation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828440" y="213372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092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e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acadé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280200" y="2149560"/>
            <a:ext cx="99072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600200" y="2133720"/>
            <a:ext cx="838080" cy="2514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566320" y="3886560"/>
            <a:ext cx="154440" cy="788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4648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nspecteurs d’aca-démie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(1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imes New Roman"/>
              </a:rPr>
              <a:t>er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&amp; 2nd degr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88800" y="373392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ésid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univers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133720"/>
            <a:ext cx="533520" cy="144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91080" y="2133720"/>
            <a:ext cx="0" cy="4419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3809880"/>
            <a:ext cx="990720" cy="30492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365640"/>
            <a:ext cx="53352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5029200"/>
            <a:ext cx="205740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87840" y="304560"/>
            <a:ext cx="0" cy="990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1760" y="5867280"/>
            <a:ext cx="20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he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établis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526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352680"/>
            <a:ext cx="5331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670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727440"/>
            <a:ext cx="2133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337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28600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3352680"/>
            <a:ext cx="3045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3365640"/>
            <a:ext cx="38088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450F-6D67-4627-BBA6-09D26360FD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universités sont des EPSCP, caractérisés notamment p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autonomie financière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ns certaines limites, une liberté pour définir leurs structures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relative indépendance pour accomplir les missions telles que définies dans le Code de l’É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 à caractère scientifique, culturel et professionnel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4D4D-9529-4B1A-98AB-B76FDFD4B4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ticle L 951-3 du Code de l’Éduc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ministre chargé de l’enseignement supérieur peut déléguer par arrêté aux présidents des universités […] tout ou partie de ses pouvoirs en matière de recrutement et de gestion des personnels titulaires, stagiaires et non titulaires de l’État qui relèvent de son autorité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ainsi déléguées s'exercent au nom de l'État et leur exercice est soumis au contrôle financ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</a:t>
            </a: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D830-FB5D-45BE-988B-4AA9D35221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 personnels des 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corps de fonctionnaires de l’Éducation nationale relèvent de la Fonction publique d’Ét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DIPLOME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88416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Pile_bureau" descr=""/>
          <p:cNvPicPr/>
          <p:nvPr/>
        </p:nvPicPr>
        <p:blipFill>
          <a:blip r:embed="rId2"/>
          <a:stretch/>
        </p:blipFill>
        <p:spPr>
          <a:xfrm>
            <a:off x="163440" y="3044880"/>
            <a:ext cx="2195640" cy="2360520"/>
          </a:xfrm>
          <a:prstGeom prst="rect">
            <a:avLst/>
          </a:prstGeom>
          <a:ln w="0">
            <a:noFill/>
          </a:ln>
        </p:spPr>
      </p:pic>
      <p:pic>
        <p:nvPicPr>
          <p:cNvPr id="282" name="RECOMPEN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2797-04DC-4B95-8E9D-5130CC3EA6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statut de la Fonction publique d’État 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itué de deux l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3-634 du 13 juillet 198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4-16 du 11 janvier 198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nombreuses dispositions sont fixées dans les décrets pris pour l’application de ces deux lo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fonctionnaire, c’est 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 droits et des obl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AEAF-F65B-4CD9-A88F-E92659C02B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chaque corps, il existe en outre un statut particulier (décret statutaire) qui fixe les dispositions applicables à ce corp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ru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ps / Grade / Éch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rière : promotion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sition statut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- modalit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s statuts particuliers, pour la plupart, s’inscrivent dans le cadre des dispositions communes du statut général de la Fonction publique d’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03E5-682D-44A0-A9D9-57848A6790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79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Corps et catégorie fonction publique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000" y="5045040"/>
            <a:ext cx="8831160" cy="1185840"/>
          </a:xfrm>
          <a:prstGeom prst="rect">
            <a:avLst/>
          </a:prstGeom>
          <a:solidFill>
            <a:srgbClr val="d3f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5520" y="3581280"/>
            <a:ext cx="8831160" cy="1185840"/>
          </a:xfrm>
          <a:prstGeom prst="rect">
            <a:avLst/>
          </a:prstGeom>
          <a:solidFill>
            <a:srgbClr val="b2f4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520" y="2395440"/>
            <a:ext cx="8831160" cy="1185840"/>
          </a:xfrm>
          <a:prstGeom prst="rect">
            <a:avLst/>
          </a:prstGeom>
          <a:solidFill>
            <a:srgbClr val="8eee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2000" y="1263600"/>
            <a:ext cx="8831160" cy="1185840"/>
          </a:xfrm>
          <a:prstGeom prst="rect">
            <a:avLst/>
          </a:prstGeom>
          <a:solidFill>
            <a:srgbClr val="68ea7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19320" y="1295280"/>
            <a:ext cx="5554080" cy="4928400"/>
            <a:chOff x="1219320" y="1295280"/>
            <a:chExt cx="5554080" cy="4928400"/>
          </a:xfrm>
        </p:grpSpPr>
        <p:sp>
          <p:nvSpPr>
            <p:cNvPr id="294" name=""/>
            <p:cNvSpPr/>
            <p:nvPr/>
          </p:nvSpPr>
          <p:spPr>
            <a:xfrm>
              <a:off x="1219320" y="129528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77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532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12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9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08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6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4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02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30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00000" y="129528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6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9092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278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30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09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30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26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33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24240" y="24894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2024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03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166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85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44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3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88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4044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5932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19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568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3480" y="24894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1040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9920" y="2495160"/>
              <a:ext cx="330480" cy="1075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0480" y="250164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330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09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26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833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24240" y="37080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024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03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166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85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44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73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88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404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593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19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5568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3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136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49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46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2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16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9920" y="371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0480" y="3717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330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09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0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26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33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4240" y="506412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2024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803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66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85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4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380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388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4044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24440" y="5064120"/>
              <a:ext cx="3286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567320" y="5257800"/>
            <a:ext cx="4576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01/08/1990 : mise en extinction de la catégorie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(Accords DURAFOU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0720" y="137016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0720" y="2598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0720" y="384480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88920" y="4952880"/>
            <a:ext cx="9055080" cy="1047240"/>
            <a:chOff x="88920" y="4952880"/>
            <a:chExt cx="9055080" cy="1047240"/>
          </a:xfrm>
        </p:grpSpPr>
        <p:sp>
          <p:nvSpPr>
            <p:cNvPr id="374" name=""/>
            <p:cNvSpPr/>
            <p:nvPr/>
          </p:nvSpPr>
          <p:spPr>
            <a:xfrm>
              <a:off x="88920" y="4952880"/>
              <a:ext cx="90550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2960" y="5175000"/>
              <a:ext cx="8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5f5f5f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952880" y="1339920"/>
            <a:ext cx="65736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6A87-7E7E-42B9-9954-F523A24C35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5338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Corps, grades, échelon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74680" y="380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32040" y="17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7160" y="2286000"/>
            <a:ext cx="54432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2960" y="355428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DE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82960" y="491184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99"/>
                </a:solidFill>
                <a:latin typeface="Arial"/>
              </a:rPr>
              <a:t>GRADE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944880" y="1726920"/>
            <a:ext cx="1177920" cy="763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70440" y="2478240"/>
            <a:ext cx="1152360" cy="150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2503440"/>
            <a:ext cx="1127160" cy="287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83040" y="2490840"/>
            <a:ext cx="1139760" cy="450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83040" y="2666880"/>
            <a:ext cx="1139760" cy="101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984480" y="3160800"/>
            <a:ext cx="1152720" cy="57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70440" y="3718080"/>
            <a:ext cx="1152360" cy="19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3705120"/>
            <a:ext cx="1127160" cy="425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83040" y="3754440"/>
            <a:ext cx="1139760" cy="56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995640" y="4168440"/>
            <a:ext cx="1077840" cy="88884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057560" y="4406400"/>
            <a:ext cx="1065240" cy="638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008600" y="4594320"/>
            <a:ext cx="1114200" cy="488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4781160"/>
            <a:ext cx="1116000" cy="2890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995640" y="4995720"/>
            <a:ext cx="1127160" cy="619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08600" y="5083200"/>
            <a:ext cx="1114200" cy="871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21200" y="5083200"/>
            <a:ext cx="1101600" cy="22536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08600" y="5083200"/>
            <a:ext cx="1114200" cy="36360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1200" y="5108400"/>
            <a:ext cx="1101600" cy="476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1200" y="5108400"/>
            <a:ext cx="1101600" cy="650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24720" y="56595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--&gt; Indice brut 4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230040" y="326700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Cat</a:t>
            </a:r>
            <a:r>
              <a:rPr b="1" lang="fr-FR" sz="2000" spc="-1" strike="noStrike">
                <a:solidFill>
                  <a:srgbClr val="00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96200" y="1690560"/>
            <a:ext cx="501480" cy="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3240" y="1687680"/>
            <a:ext cx="527040" cy="13788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527880" y="1509480"/>
            <a:ext cx="419040" cy="17604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06520" y="137628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06520" y="152892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06520" y="168120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480" y="22860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GRADE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9280" y="1219320"/>
            <a:ext cx="8305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24720" y="54309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2--&gt; Indice brut 5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4720" y="52293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3--&gt; Indice brut 5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4360" y="403848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1--&gt; Indice brut 87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4360" y="419112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4360" y="4363920"/>
            <a:ext cx="3094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09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4360" y="38862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3--&gt; Indice brut 9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2960" y="261144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5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88080" y="28116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80880" y="243828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3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4600" y="2995560"/>
            <a:ext cx="26175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4--&gt; Indice brut 9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3120" y="1552680"/>
            <a:ext cx="1785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4--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F4B2-5769-4A7A-B2B9-6883EF777B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533880" y="-7668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ans l’enseignement supérieu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Il existe des statuts dérogato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tatut des enseignants chercheurs, ou des ITRF : certaines règles sont différentes de celles du Statut  général de la Fonction Publique d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et modalités spécif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ation des enseignants cherch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COLERE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14954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DEB9-715B-4A2F-8DB8-C5FE2F2A7A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066320"/>
            <a:ext cx="846144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26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l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’organisation administrative de l’Éta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poids de l’histo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’est-ce qu’une administration centralisé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quoi changer ; quels enjeux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centralisation et déconcent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ques particularités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Académie et le rect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d’enseignement supéri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095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A783-1CB4-4EE6-8BC9-906E9B4CB28A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Une complexité réglementaire : les normes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tte complexité impose, auparavant, de bien connaître et comprendre, outre les textes législatifs et réglementaires eux-mêmes, la hiérarchie entre ces textes, qu’on app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Hiérarchie des règles de droit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ou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Hiérarchie des nor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stitution  et Traités internation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Ordonn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écr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rrê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ircu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08560" y="4546440"/>
            <a:ext cx="26668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495680"/>
            <a:ext cx="48769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remier minis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00ff"/>
                </a:solidFill>
                <a:latin typeface="Times New Roman"/>
              </a:rPr>
              <a:t>(le plus souv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Minis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93480" y="4533840"/>
            <a:ext cx="19810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990360" y="3504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2717640" y="426708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724280" y="5079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C9FC-3626-473C-A93D-41A93DC6C4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0880" y="-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entraliser, 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1066680"/>
            <a:ext cx="8991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missions des administrations centrales :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ncevoir une politique glob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rospective : anticip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égislation et réglement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ilotage et animation des services déconcentrés et d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ntrôle et tutel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Évalu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ais aussi gérer ce qui ne peut pas l’être au niveau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ocal - et seulement c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80F1-201C-4082-9FB4-87BA3D3ECE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1066680"/>
            <a:ext cx="82296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éconcentrer, c’est donc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épartir des compétences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’est aussi, du fait de la nouvelle répartition des compétences,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-définir une organisation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irculaire du Premier ministre aux ministres en date du 9 avril 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« Lorsqu'un ministre délègue ses pouvoirs ... à l'autorité déconcentrée compétente, il institue à l'intérieur de son administration une répartition de compétences nouvelle, permanente et exclusive de la répartition antérieure et modifie ainsi l'organisation du service public. 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028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et ré-organis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8D5F-17C2-4F7D-A07B-F44CF358A9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68256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’est ce qui, en GRH, est déjà déconcentré au niveau académique depuis longtemp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1" name="DRAPEAU" descr=""/>
          <p:cNvPicPr/>
          <p:nvPr/>
        </p:nvPicPr>
        <p:blipFill>
          <a:blip r:embed="rId1"/>
          <a:stretch/>
        </p:blipFill>
        <p:spPr>
          <a:xfrm>
            <a:off x="2362320" y="4005360"/>
            <a:ext cx="3138480" cy="231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4C66-BFC6-4C35-A2BC-F931AF1860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46144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mouvement a en effet été amorcé, en direction des académies, il y a quelques dizaines d’anné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irculaire n° 70-199 du 20 avril 1970 adressée aux recteurs et aux inspecteurs d'acadé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«  </a:t>
            </a: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….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l'objectif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rapprocher la décision administrative de l'administré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75960" y="-152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DB94-21BC-4EAA-8882-1788BD577F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 déconcentrés (arrêtés, décisions) sont pris au niveau académique par le recteur. Ils sont transmis à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recteur a la possibilité, sous certaines conditions et pour certains actes, de déléguer sa signature à un fonctionnaire de catégorie A de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360" y="3124080"/>
            <a:ext cx="815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ils doivent encore être pris en compte local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r>
              <a:rPr b="1" lang="fr-FR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2E2A-0221-487C-870E-AF502B8F25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lle implique la création d’instances, notamment des CAPA (Commissions administratives paritaires académiq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dialogue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recrutement au niveau académi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 promotions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…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8609-BC9E-4D98-923A-5D7A1FA101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33520" y="43434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1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9296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 déconcentrés (arrêtés, décisions) sont préparés au niveau de l’établissement et signés par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peut déléguer sa signature au secrétaire général ou à des fonctionnaires de catégorie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peuvent donc être pris en compte rapid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pie sera adressée, le cas échéant et selon les actes, au recteur ou au minis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A67B-1E3F-485C-9CE3-E5B8B10803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non déconcentrés sur le recteur ou le président continuent d’être pris au niveau central par le ministre (même s’ils sont instruits au niveau académique ou établisse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ls sont transmis à l’établissement, parfois via le rector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partiellement déconcentré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=&gt; des délais qui peuvent être import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C274-ECD1-4BC8-B53D-F4E4368077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Une déconcentration à plusieurs niveaux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 l’Éducation nationale, les compétences sont réparties sur </a:t>
            </a: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usieurs niveaux qui coexist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ministration cent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to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spections académiqu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le supérieur n’est pas concern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ur un acte particulier et un corps donnés, un seul niveau est compét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F976-D0E8-4A53-98EA-818BB67E44D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Fonction publique d’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(F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statuts de la FP d’Ét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statuts dérogatoires dans l’enseignement sup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missions des 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et ré-organ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établis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déconcentration à plusieurs nive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610D-95B6-4A49-B445-FEC5CC565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Délégation de pouvoir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 Délégation de signatur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pouvo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un transfert de pouvoirs d’une autorité à une autre autorité subordonnée ; il dessaisit totalement l’autorité qui délèg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la possibilité, pour une autorité subordonnée, de prendre un acte au nom de l’autorité qui délègue sa sig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e délégation de signature est personnel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une ou l’autre ne sont possibles que si elles sont prévues par une loi ou un décret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8026-6A95-43E7-B23F-8C2AD7997F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déconcentration de la GRH dans l’enseignement supéri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28240" y="1856880"/>
            <a:ext cx="8839080" cy="36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nonce du type de cas pratiques à traiter au cours des ate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herche du niveau de gestion d’un acte particulier pour un agent d’un corps donné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flexion sur les améliorations possibles d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’organisation du (des) service(s) qui traite(nt) cet acte dans l’établissement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criture en commun de la procédu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puis l’événement déclencheur jusqu’à la prise en compte de tous les effets de l’ac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deux dernières phases seront répétées si nécessaire car chacune d’elle impacte l’au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0505-3E26-46BF-820E-80A72BC33FB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delà des textes, sa réussite dépend d’une évolution en profondeur des pratiques et des esprit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mentali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compor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9880" y="4428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AE5C-C7D9-40C0-90C8-CF55A22DD1E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me tout processus en mouvement, il est susceptible, à un moment donné, de mettre à jour des incohé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65" name="cible" descr=""/>
          <p:cNvPicPr/>
          <p:nvPr/>
        </p:nvPicPr>
        <p:blipFill>
          <a:blip r:embed="rId1"/>
          <a:stretch/>
        </p:blipFill>
        <p:spPr>
          <a:xfrm>
            <a:off x="304920" y="2306520"/>
            <a:ext cx="3163680" cy="20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C2EB-F5C7-4646-AB52-08F36925D7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96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ation des acteu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roissement des compétences (savoir faire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sécuriser juridiquement les ac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procéder à une veille réglementai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ation de l’organisation interne et des missions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organisation des services et, en cohérence, définition de procédures internes, établissement de calendriers prévisionnels en cohérence avec celui de l’administration centrale, mise en place d’une veille réglementaire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remontées d’informations fiables  au niveau central (ou académiqu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45F0-44A5-472E-B5BC-496686EB7B1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19760" y="76212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7760" y="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trôle financier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ne s’exerce plus au niveau central pour les actes qui sont déconcentré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l existe dans chaque région, un contrôle financier déconcentré, confié au Trésorier Payeur Général (TPG) de la rég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actes de gestion des personnels de l’État sont normalement soumis à ce contrôle (Cf. Annexe 13 : Décret 96-629 modifié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règles n’ont pas été précisées dans le cadre du processus de déconcentration de la GRH dans l’enseignement supérieur en cours ; il se peut donc qu’elles soient mises en œuvre différemment d’une région à l’aut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ègles applicables à ces contrôles sont en cours d’évolution (contrôle par sondage, contrôle a posteriori …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C8AB-B1CD-43FD-94B6-6712DA017A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1600200"/>
            <a:ext cx="80773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écessité impérieuse de « remonter » des informations fi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ur permettre au niveau central d’exécuter pleinement ses miss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s remontées de données, depuis chacun des établissements, doivent être consolidables au niveau central (ou au niveau académique), c’est à dire construites sur les mêmes concepts, organisées et présentées sur un modèle commun, et, le plus souvent dans un calendrier contrai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GRAPH2" descr=""/>
          <p:cNvPicPr/>
          <p:nvPr/>
        </p:nvPicPr>
        <p:blipFill>
          <a:blip r:embed="rId1"/>
          <a:stretch/>
        </p:blipFill>
        <p:spPr>
          <a:xfrm flipH="1">
            <a:off x="6832080" y="5132520"/>
            <a:ext cx="2235240" cy="15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A381-17F2-46A0-ABB7-C9DFBF9FD3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 recentrage sur les missions propres aux administrations cent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appe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dministrations centrales assurent au niveau national un rôle de conception, d'animation, d'orientation, d'évaluation et de contrô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 le portage et l’accompagnement du processus de déconcentr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91440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38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465-4EF3-48BA-8ADD-899055605F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6640" y="2206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4120" indent="-384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r les données nécessaires à l’exécution des missions de l’administration centra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changes des donn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e suivi et de pilotage des structures déconcentr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CHIFFRES" descr=""/>
          <p:cNvPicPr/>
          <p:nvPr/>
        </p:nvPicPr>
        <p:blipFill>
          <a:blip r:embed="rId1"/>
          <a:stretch/>
        </p:blipFill>
        <p:spPr>
          <a:xfrm>
            <a:off x="5257800" y="5105520"/>
            <a:ext cx="1828800" cy="162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F20E-6E21-4043-8AEB-60205692C30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pliquer la délégation de pou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éder au transfert des sa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ompagner le transfert : préciser quelles sont les ressources accessibl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outils, circuits et interlocuteurs) ;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valuation du proces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838080"/>
            <a:ext cx="914400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uite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SECOUE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8144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91A9-D79C-4161-8322-8535AB7BB14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6560" y="5913360"/>
            <a:ext cx="80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ette réflexion est à mener avec les gestionnaires des établiss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1600"/>
            <a:ext cx="822960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légation de pouvoirs et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processus qui va se poursu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tout n’est pas déconcent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tr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EA3-995B-4A6B-9A71-74753D0FB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Tout n’est cependant pas déconcentrable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…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oui mais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1" name="Passagetemoin" descr=""/>
          <p:cNvPicPr/>
          <p:nvPr/>
        </p:nvPicPr>
        <p:blipFill>
          <a:blip r:embed="rId1"/>
          <a:stretch/>
        </p:blipFill>
        <p:spPr>
          <a:xfrm>
            <a:off x="457200" y="3925800"/>
            <a:ext cx="350532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42ED-FA10-4506-B45D-EC7911495C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ertains actes continueront de relever des administrations centrales, au delà des compétences qui leur sont prop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« structurelles »,  par exemple lorsque le comité médical supérieur est sais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n gestion collective, lorsque les effectifs sont insuffis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de commodité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Tout n’est pas déconcentrable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4" name="SIGNAL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490840" cy="23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E06F-0BBB-4C61-8A19-E6B28C7ED75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992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es mutations ont des conséquences d’un autre ordre au niveau local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256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ssibilités d’avoir des initiatives propres, de construire des projets ou des contrats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121932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ARTNRS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99" name="pense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1170000" cy="21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1200-0DB2-4A90-8682-1F489491683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42800" y="138240"/>
            <a:ext cx="63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D’autres conséquences 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22096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1576440"/>
            <a:ext cx="899172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tres leviers utilisés pour que soient mises en œuvre les priorités définies par le gouvernem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out en incitant à la réalisation d’initiatives local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contractu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globalisation des moy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SECOUE" descr=""/>
          <p:cNvPicPr/>
          <p:nvPr/>
        </p:nvPicPr>
        <p:blipFill>
          <a:blip r:embed="rId1"/>
          <a:stretch/>
        </p:blipFill>
        <p:spPr>
          <a:xfrm flipH="1">
            <a:off x="6629040" y="3581280"/>
            <a:ext cx="2133720" cy="23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DFC2-4167-49DC-BA4F-125F58FB453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contrat entre le ministre et l’établissement est l’occas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construire un projet collectif et cohé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u niveau de l’établissement 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’affirmer son identité, ses choix et ses objectif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à partir de la situation présente et sur la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prévisions et d’objectifs sur quatre 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’autres conséquences dans l’enseignement supérieur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06" name="SOUTIEN" descr=""/>
          <p:cNvPicPr/>
          <p:nvPr/>
        </p:nvPicPr>
        <p:blipFill>
          <a:blip r:embed="rId1"/>
          <a:stretch/>
        </p:blipFill>
        <p:spPr>
          <a:xfrm>
            <a:off x="7883640" y="1006560"/>
            <a:ext cx="1260360" cy="51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D21E-AF49-4546-A92C-6F0C096F990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s pratique n° 1 – Temps part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formuler les énoncés ; s’assurer que le cas de gestion est bien appréhend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les règles sont applicabl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(s) niveaux sont impliqué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rogation de l’outil en lign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à la croisée de quel acte et pour quelle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cor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Cas pratique n°1</a:t>
            </a:r>
            <a:br>
              <a:rPr sz="3600"/>
            </a:b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(à réaliser collectivement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18FE-EA45-4F43-9F54-08ECCE82F726}" type="slidenum">
              <a:t>65</a:t>
            </a:fld>
          </a:p>
        </p:txBody>
      </p:sp>
    </p:spTree>
  </p:cSld>
  <p:transition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Sujet 2 : les act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 (Congé ordinaire de maladie d’un fonctionnai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RCT accordé (Congé de recherche et conversion thématiqu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fus d’un CR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diger la lettre de ref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247C-F2D3-407B-BFA6-92CAC99FA562}" type="slidenum">
              <a:t>66</a:t>
            </a:fld>
          </a:p>
        </p:txBody>
      </p:sp>
    </p:spTree>
  </p:cSld>
  <p:transition>
    <p:checke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Résumé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vons nous situer dans l’organisation administrative de l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avons des responsabilités importantes à assum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exercer efficacement nos fonction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instaurer les collaborations nécess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 sein de l’établiss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t au delà, entre les différents niveaux de ges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l’accomplissement des missions de nos établissement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rendre un service de qua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urons partager cette connaissance avec d’aut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8B0E-F5A3-448D-9077-C9FCC61682CF}" type="slidenum">
              <a:t>67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’État, pour des raisons historiques, s’est construit autour d’un pouvoir central f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monarchie a dû instaurer un pouvoir fort face aux puissances féodal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Révolution a structuré et organisé l’administration (création des départements) sans déléguer de pouvoirs. Elle a donc renforcé le pouvoir central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’organisation de l’État :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42200" y="484200"/>
            <a:ext cx="865080" cy="1782720"/>
            <a:chOff x="7342200" y="484200"/>
            <a:chExt cx="865080" cy="1782720"/>
          </a:xfrm>
        </p:grpSpPr>
        <p:sp>
          <p:nvSpPr>
            <p:cNvPr id="109" name=""/>
            <p:cNvSpPr/>
            <p:nvPr/>
          </p:nvSpPr>
          <p:spPr>
            <a:xfrm>
              <a:off x="7611840" y="752760"/>
              <a:ext cx="273240" cy="369720"/>
            </a:xfrm>
            <a:custGeom>
              <a:avLst/>
              <a:gdLst/>
              <a:ahLst/>
              <a:rect l="l" t="t" r="r" b="b"/>
              <a:pathLst>
                <a:path w="345" h="465">
                  <a:moveTo>
                    <a:pt x="207" y="0"/>
                  </a:moveTo>
                  <a:lnTo>
                    <a:pt x="250" y="6"/>
                  </a:lnTo>
                  <a:lnTo>
                    <a:pt x="292" y="30"/>
                  </a:lnTo>
                  <a:lnTo>
                    <a:pt x="319" y="65"/>
                  </a:lnTo>
                  <a:lnTo>
                    <a:pt x="340" y="119"/>
                  </a:lnTo>
                  <a:lnTo>
                    <a:pt x="345" y="209"/>
                  </a:lnTo>
                  <a:lnTo>
                    <a:pt x="329" y="298"/>
                  </a:lnTo>
                  <a:lnTo>
                    <a:pt x="303" y="364"/>
                  </a:lnTo>
                  <a:lnTo>
                    <a:pt x="266" y="417"/>
                  </a:lnTo>
                  <a:lnTo>
                    <a:pt x="229" y="453"/>
                  </a:lnTo>
                  <a:lnTo>
                    <a:pt x="185" y="465"/>
                  </a:lnTo>
                  <a:lnTo>
                    <a:pt x="143" y="459"/>
                  </a:lnTo>
                  <a:lnTo>
                    <a:pt x="122" y="429"/>
                  </a:lnTo>
                  <a:lnTo>
                    <a:pt x="90" y="382"/>
                  </a:lnTo>
                  <a:lnTo>
                    <a:pt x="79" y="292"/>
                  </a:lnTo>
                  <a:lnTo>
                    <a:pt x="90" y="197"/>
                  </a:lnTo>
                  <a:lnTo>
                    <a:pt x="95" y="185"/>
                  </a:lnTo>
                  <a:lnTo>
                    <a:pt x="0" y="89"/>
                  </a:lnTo>
                  <a:lnTo>
                    <a:pt x="0" y="42"/>
                  </a:lnTo>
                  <a:lnTo>
                    <a:pt x="16" y="36"/>
                  </a:lnTo>
                  <a:lnTo>
                    <a:pt x="111" y="149"/>
                  </a:lnTo>
                  <a:lnTo>
                    <a:pt x="122" y="95"/>
                  </a:lnTo>
                  <a:lnTo>
                    <a:pt x="153" y="36"/>
                  </a:lnTo>
                  <a:lnTo>
                    <a:pt x="185" y="1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4440" y="484200"/>
              <a:ext cx="312840" cy="765360"/>
            </a:xfrm>
            <a:custGeom>
              <a:avLst/>
              <a:gdLst/>
              <a:ahLst/>
              <a:rect l="l" t="t" r="r" b="b"/>
              <a:pathLst>
                <a:path w="394" h="963">
                  <a:moveTo>
                    <a:pt x="83" y="797"/>
                  </a:moveTo>
                  <a:lnTo>
                    <a:pt x="53" y="832"/>
                  </a:lnTo>
                  <a:lnTo>
                    <a:pt x="11" y="874"/>
                  </a:lnTo>
                  <a:lnTo>
                    <a:pt x="0" y="939"/>
                  </a:lnTo>
                  <a:lnTo>
                    <a:pt x="23" y="963"/>
                  </a:lnTo>
                  <a:lnTo>
                    <a:pt x="59" y="963"/>
                  </a:lnTo>
                  <a:lnTo>
                    <a:pt x="95" y="927"/>
                  </a:lnTo>
                  <a:lnTo>
                    <a:pt x="142" y="850"/>
                  </a:lnTo>
                  <a:lnTo>
                    <a:pt x="166" y="767"/>
                  </a:lnTo>
                  <a:lnTo>
                    <a:pt x="196" y="708"/>
                  </a:lnTo>
                  <a:lnTo>
                    <a:pt x="238" y="625"/>
                  </a:lnTo>
                  <a:lnTo>
                    <a:pt x="285" y="577"/>
                  </a:lnTo>
                  <a:lnTo>
                    <a:pt x="297" y="463"/>
                  </a:lnTo>
                  <a:lnTo>
                    <a:pt x="309" y="386"/>
                  </a:lnTo>
                  <a:lnTo>
                    <a:pt x="309" y="315"/>
                  </a:lnTo>
                  <a:lnTo>
                    <a:pt x="327" y="220"/>
                  </a:lnTo>
                  <a:lnTo>
                    <a:pt x="357" y="184"/>
                  </a:lnTo>
                  <a:lnTo>
                    <a:pt x="394" y="24"/>
                  </a:lnTo>
                  <a:lnTo>
                    <a:pt x="351" y="0"/>
                  </a:lnTo>
                  <a:lnTo>
                    <a:pt x="279" y="6"/>
                  </a:lnTo>
                  <a:lnTo>
                    <a:pt x="273" y="125"/>
                  </a:lnTo>
                  <a:lnTo>
                    <a:pt x="214" y="101"/>
                  </a:lnTo>
                  <a:lnTo>
                    <a:pt x="190" y="119"/>
                  </a:lnTo>
                  <a:lnTo>
                    <a:pt x="250" y="172"/>
                  </a:lnTo>
                  <a:lnTo>
                    <a:pt x="250" y="238"/>
                  </a:lnTo>
                  <a:lnTo>
                    <a:pt x="256" y="309"/>
                  </a:lnTo>
                  <a:lnTo>
                    <a:pt x="256" y="392"/>
                  </a:lnTo>
                  <a:lnTo>
                    <a:pt x="250" y="463"/>
                  </a:lnTo>
                  <a:lnTo>
                    <a:pt x="214" y="535"/>
                  </a:lnTo>
                  <a:lnTo>
                    <a:pt x="172" y="672"/>
                  </a:lnTo>
                  <a:lnTo>
                    <a:pt x="136" y="731"/>
                  </a:lnTo>
                  <a:lnTo>
                    <a:pt x="83" y="79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42200" y="520920"/>
              <a:ext cx="317160" cy="738000"/>
            </a:xfrm>
            <a:custGeom>
              <a:avLst/>
              <a:gdLst/>
              <a:ahLst/>
              <a:rect l="l" t="t" r="r" b="b"/>
              <a:pathLst>
                <a:path w="398" h="928">
                  <a:moveTo>
                    <a:pt x="350" y="761"/>
                  </a:moveTo>
                  <a:lnTo>
                    <a:pt x="380" y="803"/>
                  </a:lnTo>
                  <a:lnTo>
                    <a:pt x="392" y="832"/>
                  </a:lnTo>
                  <a:lnTo>
                    <a:pt x="398" y="886"/>
                  </a:lnTo>
                  <a:lnTo>
                    <a:pt x="392" y="916"/>
                  </a:lnTo>
                  <a:lnTo>
                    <a:pt x="362" y="928"/>
                  </a:lnTo>
                  <a:lnTo>
                    <a:pt x="321" y="922"/>
                  </a:lnTo>
                  <a:lnTo>
                    <a:pt x="291" y="880"/>
                  </a:lnTo>
                  <a:lnTo>
                    <a:pt x="261" y="832"/>
                  </a:lnTo>
                  <a:lnTo>
                    <a:pt x="220" y="737"/>
                  </a:lnTo>
                  <a:lnTo>
                    <a:pt x="172" y="666"/>
                  </a:lnTo>
                  <a:lnTo>
                    <a:pt x="137" y="613"/>
                  </a:lnTo>
                  <a:lnTo>
                    <a:pt x="119" y="512"/>
                  </a:lnTo>
                  <a:lnTo>
                    <a:pt x="101" y="392"/>
                  </a:lnTo>
                  <a:lnTo>
                    <a:pt x="77" y="326"/>
                  </a:lnTo>
                  <a:lnTo>
                    <a:pt x="42" y="267"/>
                  </a:lnTo>
                  <a:lnTo>
                    <a:pt x="24" y="219"/>
                  </a:lnTo>
                  <a:lnTo>
                    <a:pt x="0" y="142"/>
                  </a:lnTo>
                  <a:lnTo>
                    <a:pt x="6" y="59"/>
                  </a:lnTo>
                  <a:lnTo>
                    <a:pt x="48" y="5"/>
                  </a:lnTo>
                  <a:lnTo>
                    <a:pt x="101" y="0"/>
                  </a:lnTo>
                  <a:lnTo>
                    <a:pt x="119" y="130"/>
                  </a:lnTo>
                  <a:lnTo>
                    <a:pt x="149" y="118"/>
                  </a:lnTo>
                  <a:lnTo>
                    <a:pt x="154" y="154"/>
                  </a:lnTo>
                  <a:lnTo>
                    <a:pt x="119" y="184"/>
                  </a:lnTo>
                  <a:lnTo>
                    <a:pt x="119" y="243"/>
                  </a:lnTo>
                  <a:lnTo>
                    <a:pt x="149" y="338"/>
                  </a:lnTo>
                  <a:lnTo>
                    <a:pt x="172" y="439"/>
                  </a:lnTo>
                  <a:lnTo>
                    <a:pt x="190" y="553"/>
                  </a:lnTo>
                  <a:lnTo>
                    <a:pt x="214" y="595"/>
                  </a:lnTo>
                  <a:lnTo>
                    <a:pt x="267" y="666"/>
                  </a:lnTo>
                  <a:lnTo>
                    <a:pt x="321" y="725"/>
                  </a:lnTo>
                  <a:lnTo>
                    <a:pt x="350" y="7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6240" y="1163880"/>
              <a:ext cx="282600" cy="534960"/>
            </a:xfrm>
            <a:custGeom>
              <a:avLst/>
              <a:gdLst/>
              <a:ahLst/>
              <a:rect l="l" t="t" r="r" b="b"/>
              <a:pathLst>
                <a:path w="357" h="674">
                  <a:moveTo>
                    <a:pt x="136" y="0"/>
                  </a:moveTo>
                  <a:lnTo>
                    <a:pt x="191" y="0"/>
                  </a:lnTo>
                  <a:lnTo>
                    <a:pt x="256" y="12"/>
                  </a:lnTo>
                  <a:lnTo>
                    <a:pt x="292" y="48"/>
                  </a:lnTo>
                  <a:lnTo>
                    <a:pt x="327" y="113"/>
                  </a:lnTo>
                  <a:lnTo>
                    <a:pt x="345" y="162"/>
                  </a:lnTo>
                  <a:lnTo>
                    <a:pt x="357" y="221"/>
                  </a:lnTo>
                  <a:lnTo>
                    <a:pt x="357" y="292"/>
                  </a:lnTo>
                  <a:lnTo>
                    <a:pt x="351" y="364"/>
                  </a:lnTo>
                  <a:lnTo>
                    <a:pt x="345" y="441"/>
                  </a:lnTo>
                  <a:lnTo>
                    <a:pt x="321" y="536"/>
                  </a:lnTo>
                  <a:lnTo>
                    <a:pt x="292" y="602"/>
                  </a:lnTo>
                  <a:lnTo>
                    <a:pt x="238" y="656"/>
                  </a:lnTo>
                  <a:lnTo>
                    <a:pt x="179" y="674"/>
                  </a:lnTo>
                  <a:lnTo>
                    <a:pt x="113" y="656"/>
                  </a:lnTo>
                  <a:lnTo>
                    <a:pt x="71" y="572"/>
                  </a:lnTo>
                  <a:lnTo>
                    <a:pt x="42" y="495"/>
                  </a:lnTo>
                  <a:lnTo>
                    <a:pt x="24" y="405"/>
                  </a:lnTo>
                  <a:lnTo>
                    <a:pt x="0" y="322"/>
                  </a:lnTo>
                  <a:lnTo>
                    <a:pt x="0" y="209"/>
                  </a:lnTo>
                  <a:lnTo>
                    <a:pt x="18" y="131"/>
                  </a:lnTo>
                  <a:lnTo>
                    <a:pt x="42" y="71"/>
                  </a:lnTo>
                  <a:lnTo>
                    <a:pt x="71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15240" y="1622520"/>
              <a:ext cx="217440" cy="614520"/>
            </a:xfrm>
            <a:custGeom>
              <a:avLst/>
              <a:gdLst/>
              <a:ahLst/>
              <a:rect l="l" t="t" r="r" b="b"/>
              <a:pathLst>
                <a:path w="274" h="774">
                  <a:moveTo>
                    <a:pt x="51" y="90"/>
                  </a:moveTo>
                  <a:lnTo>
                    <a:pt x="15" y="38"/>
                  </a:lnTo>
                  <a:lnTo>
                    <a:pt x="27" y="0"/>
                  </a:lnTo>
                  <a:lnTo>
                    <a:pt x="63" y="0"/>
                  </a:lnTo>
                  <a:lnTo>
                    <a:pt x="104" y="41"/>
                  </a:lnTo>
                  <a:lnTo>
                    <a:pt x="158" y="128"/>
                  </a:lnTo>
                  <a:lnTo>
                    <a:pt x="188" y="210"/>
                  </a:lnTo>
                  <a:lnTo>
                    <a:pt x="214" y="289"/>
                  </a:lnTo>
                  <a:lnTo>
                    <a:pt x="223" y="362"/>
                  </a:lnTo>
                  <a:lnTo>
                    <a:pt x="220" y="400"/>
                  </a:lnTo>
                  <a:lnTo>
                    <a:pt x="194" y="447"/>
                  </a:lnTo>
                  <a:lnTo>
                    <a:pt x="149" y="575"/>
                  </a:lnTo>
                  <a:lnTo>
                    <a:pt x="98" y="647"/>
                  </a:lnTo>
                  <a:lnTo>
                    <a:pt x="86" y="679"/>
                  </a:lnTo>
                  <a:lnTo>
                    <a:pt x="134" y="685"/>
                  </a:lnTo>
                  <a:lnTo>
                    <a:pt x="197" y="685"/>
                  </a:lnTo>
                  <a:lnTo>
                    <a:pt x="274" y="714"/>
                  </a:lnTo>
                  <a:lnTo>
                    <a:pt x="268" y="736"/>
                  </a:lnTo>
                  <a:lnTo>
                    <a:pt x="256" y="761"/>
                  </a:lnTo>
                  <a:lnTo>
                    <a:pt x="232" y="774"/>
                  </a:lnTo>
                  <a:lnTo>
                    <a:pt x="185" y="755"/>
                  </a:lnTo>
                  <a:lnTo>
                    <a:pt x="134" y="727"/>
                  </a:lnTo>
                  <a:lnTo>
                    <a:pt x="63" y="723"/>
                  </a:lnTo>
                  <a:lnTo>
                    <a:pt x="18" y="733"/>
                  </a:lnTo>
                  <a:lnTo>
                    <a:pt x="0" y="717"/>
                  </a:lnTo>
                  <a:lnTo>
                    <a:pt x="0" y="695"/>
                  </a:lnTo>
                  <a:lnTo>
                    <a:pt x="24" y="670"/>
                  </a:lnTo>
                  <a:lnTo>
                    <a:pt x="63" y="628"/>
                  </a:lnTo>
                  <a:lnTo>
                    <a:pt x="131" y="523"/>
                  </a:lnTo>
                  <a:lnTo>
                    <a:pt x="161" y="431"/>
                  </a:lnTo>
                  <a:lnTo>
                    <a:pt x="170" y="343"/>
                  </a:lnTo>
                  <a:lnTo>
                    <a:pt x="167" y="295"/>
                  </a:lnTo>
                  <a:lnTo>
                    <a:pt x="143" y="210"/>
                  </a:lnTo>
                  <a:lnTo>
                    <a:pt x="80" y="118"/>
                  </a:lnTo>
                  <a:lnTo>
                    <a:pt x="36" y="71"/>
                  </a:lnTo>
                  <a:lnTo>
                    <a:pt x="51" y="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613160"/>
              <a:ext cx="217440" cy="653760"/>
            </a:xfrm>
            <a:custGeom>
              <a:avLst/>
              <a:gdLst/>
              <a:ahLst/>
              <a:rect l="l" t="t" r="r" b="b"/>
              <a:pathLst>
                <a:path w="273" h="825">
                  <a:moveTo>
                    <a:pt x="141" y="149"/>
                  </a:moveTo>
                  <a:lnTo>
                    <a:pt x="183" y="65"/>
                  </a:lnTo>
                  <a:lnTo>
                    <a:pt x="223" y="0"/>
                  </a:lnTo>
                  <a:lnTo>
                    <a:pt x="253" y="0"/>
                  </a:lnTo>
                  <a:lnTo>
                    <a:pt x="270" y="26"/>
                  </a:lnTo>
                  <a:lnTo>
                    <a:pt x="273" y="71"/>
                  </a:lnTo>
                  <a:lnTo>
                    <a:pt x="248" y="104"/>
                  </a:lnTo>
                  <a:lnTo>
                    <a:pt x="205" y="146"/>
                  </a:lnTo>
                  <a:lnTo>
                    <a:pt x="171" y="193"/>
                  </a:lnTo>
                  <a:lnTo>
                    <a:pt x="136" y="258"/>
                  </a:lnTo>
                  <a:lnTo>
                    <a:pt x="121" y="302"/>
                  </a:lnTo>
                  <a:lnTo>
                    <a:pt x="106" y="359"/>
                  </a:lnTo>
                  <a:lnTo>
                    <a:pt x="104" y="430"/>
                  </a:lnTo>
                  <a:lnTo>
                    <a:pt x="109" y="495"/>
                  </a:lnTo>
                  <a:lnTo>
                    <a:pt x="126" y="576"/>
                  </a:lnTo>
                  <a:lnTo>
                    <a:pt x="158" y="647"/>
                  </a:lnTo>
                  <a:lnTo>
                    <a:pt x="186" y="688"/>
                  </a:lnTo>
                  <a:lnTo>
                    <a:pt x="203" y="718"/>
                  </a:lnTo>
                  <a:lnTo>
                    <a:pt x="205" y="742"/>
                  </a:lnTo>
                  <a:lnTo>
                    <a:pt x="191" y="750"/>
                  </a:lnTo>
                  <a:lnTo>
                    <a:pt x="156" y="756"/>
                  </a:lnTo>
                  <a:lnTo>
                    <a:pt x="104" y="774"/>
                  </a:lnTo>
                  <a:lnTo>
                    <a:pt x="64" y="798"/>
                  </a:lnTo>
                  <a:lnTo>
                    <a:pt x="39" y="825"/>
                  </a:lnTo>
                  <a:lnTo>
                    <a:pt x="17" y="819"/>
                  </a:lnTo>
                  <a:lnTo>
                    <a:pt x="0" y="786"/>
                  </a:lnTo>
                  <a:lnTo>
                    <a:pt x="0" y="759"/>
                  </a:lnTo>
                  <a:lnTo>
                    <a:pt x="39" y="736"/>
                  </a:lnTo>
                  <a:lnTo>
                    <a:pt x="106" y="721"/>
                  </a:lnTo>
                  <a:lnTo>
                    <a:pt x="168" y="712"/>
                  </a:lnTo>
                  <a:lnTo>
                    <a:pt x="141" y="679"/>
                  </a:lnTo>
                  <a:lnTo>
                    <a:pt x="124" y="638"/>
                  </a:lnTo>
                  <a:lnTo>
                    <a:pt x="101" y="579"/>
                  </a:lnTo>
                  <a:lnTo>
                    <a:pt x="76" y="516"/>
                  </a:lnTo>
                  <a:lnTo>
                    <a:pt x="69" y="439"/>
                  </a:lnTo>
                  <a:lnTo>
                    <a:pt x="67" y="365"/>
                  </a:lnTo>
                  <a:lnTo>
                    <a:pt x="84" y="294"/>
                  </a:lnTo>
                  <a:lnTo>
                    <a:pt x="116" y="199"/>
                  </a:lnTo>
                  <a:lnTo>
                    <a:pt x="141" y="14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69080" y="304920"/>
            <a:ext cx="1993680" cy="852480"/>
            <a:chOff x="6769080" y="304920"/>
            <a:chExt cx="1993680" cy="852480"/>
          </a:xfrm>
        </p:grpSpPr>
        <p:sp>
          <p:nvSpPr>
            <p:cNvPr id="116" name=""/>
            <p:cNvSpPr/>
            <p:nvPr/>
          </p:nvSpPr>
          <p:spPr>
            <a:xfrm>
              <a:off x="7142040" y="505080"/>
              <a:ext cx="1290600" cy="198360"/>
            </a:xfrm>
            <a:custGeom>
              <a:avLst/>
              <a:gdLst/>
              <a:ahLst/>
              <a:rect l="l" t="t" r="r" b="b"/>
              <a:pathLst>
                <a:path w="1626" h="250">
                  <a:moveTo>
                    <a:pt x="0" y="176"/>
                  </a:moveTo>
                  <a:lnTo>
                    <a:pt x="112" y="128"/>
                  </a:lnTo>
                  <a:lnTo>
                    <a:pt x="193" y="98"/>
                  </a:lnTo>
                  <a:lnTo>
                    <a:pt x="277" y="77"/>
                  </a:lnTo>
                  <a:lnTo>
                    <a:pt x="384" y="54"/>
                  </a:lnTo>
                  <a:lnTo>
                    <a:pt x="506" y="36"/>
                  </a:lnTo>
                  <a:lnTo>
                    <a:pt x="678" y="15"/>
                  </a:lnTo>
                  <a:lnTo>
                    <a:pt x="920" y="0"/>
                  </a:lnTo>
                  <a:lnTo>
                    <a:pt x="1078" y="0"/>
                  </a:lnTo>
                  <a:lnTo>
                    <a:pt x="1191" y="6"/>
                  </a:lnTo>
                  <a:lnTo>
                    <a:pt x="1321" y="18"/>
                  </a:lnTo>
                  <a:lnTo>
                    <a:pt x="1429" y="30"/>
                  </a:lnTo>
                  <a:lnTo>
                    <a:pt x="1539" y="54"/>
                  </a:lnTo>
                  <a:lnTo>
                    <a:pt x="1626" y="83"/>
                  </a:lnTo>
                  <a:lnTo>
                    <a:pt x="1599" y="170"/>
                  </a:lnTo>
                  <a:lnTo>
                    <a:pt x="1518" y="146"/>
                  </a:lnTo>
                  <a:lnTo>
                    <a:pt x="1417" y="125"/>
                  </a:lnTo>
                  <a:lnTo>
                    <a:pt x="1321" y="107"/>
                  </a:lnTo>
                  <a:lnTo>
                    <a:pt x="1226" y="98"/>
                  </a:lnTo>
                  <a:lnTo>
                    <a:pt x="1137" y="98"/>
                  </a:lnTo>
                  <a:lnTo>
                    <a:pt x="1006" y="95"/>
                  </a:lnTo>
                  <a:lnTo>
                    <a:pt x="887" y="98"/>
                  </a:lnTo>
                  <a:lnTo>
                    <a:pt x="678" y="110"/>
                  </a:lnTo>
                  <a:lnTo>
                    <a:pt x="547" y="122"/>
                  </a:lnTo>
                  <a:lnTo>
                    <a:pt x="476" y="134"/>
                  </a:lnTo>
                  <a:lnTo>
                    <a:pt x="393" y="143"/>
                  </a:lnTo>
                  <a:lnTo>
                    <a:pt x="310" y="161"/>
                  </a:lnTo>
                  <a:lnTo>
                    <a:pt x="214" y="187"/>
                  </a:lnTo>
                  <a:lnTo>
                    <a:pt x="157" y="202"/>
                  </a:lnTo>
                  <a:lnTo>
                    <a:pt x="95" y="229"/>
                  </a:lnTo>
                  <a:lnTo>
                    <a:pt x="41" y="25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312040" y="304920"/>
              <a:ext cx="450720" cy="752400"/>
              <a:chOff x="8312040" y="304920"/>
              <a:chExt cx="450720" cy="752400"/>
            </a:xfrm>
          </p:grpSpPr>
          <p:sp>
            <p:nvSpPr>
              <p:cNvPr id="118" name=""/>
              <p:cNvSpPr/>
              <p:nvPr/>
            </p:nvSpPr>
            <p:spPr>
              <a:xfrm>
                <a:off x="8373960" y="325440"/>
                <a:ext cx="388800" cy="731880"/>
              </a:xfrm>
              <a:custGeom>
                <a:avLst/>
                <a:gdLst/>
                <a:ahLst/>
                <a:rect l="l" t="t" r="r" b="b"/>
                <a:pathLst>
                  <a:path w="489" h="922">
                    <a:moveTo>
                      <a:pt x="433" y="526"/>
                    </a:moveTo>
                    <a:lnTo>
                      <a:pt x="444" y="494"/>
                    </a:lnTo>
                    <a:lnTo>
                      <a:pt x="453" y="462"/>
                    </a:lnTo>
                    <a:lnTo>
                      <a:pt x="462" y="430"/>
                    </a:lnTo>
                    <a:lnTo>
                      <a:pt x="469" y="397"/>
                    </a:lnTo>
                    <a:lnTo>
                      <a:pt x="475" y="367"/>
                    </a:lnTo>
                    <a:lnTo>
                      <a:pt x="481" y="335"/>
                    </a:lnTo>
                    <a:lnTo>
                      <a:pt x="485" y="305"/>
                    </a:lnTo>
                    <a:lnTo>
                      <a:pt x="488" y="275"/>
                    </a:lnTo>
                    <a:lnTo>
                      <a:pt x="489" y="246"/>
                    </a:lnTo>
                    <a:lnTo>
                      <a:pt x="489" y="218"/>
                    </a:lnTo>
                    <a:lnTo>
                      <a:pt x="489" y="192"/>
                    </a:lnTo>
                    <a:lnTo>
                      <a:pt x="487" y="166"/>
                    </a:lnTo>
                    <a:lnTo>
                      <a:pt x="485" y="142"/>
                    </a:lnTo>
                    <a:lnTo>
                      <a:pt x="480" y="119"/>
                    </a:lnTo>
                    <a:lnTo>
                      <a:pt x="474" y="98"/>
                    </a:lnTo>
                    <a:lnTo>
                      <a:pt x="468" y="80"/>
                    </a:lnTo>
                    <a:lnTo>
                      <a:pt x="461" y="63"/>
                    </a:lnTo>
                    <a:lnTo>
                      <a:pt x="451" y="48"/>
                    </a:lnTo>
                    <a:lnTo>
                      <a:pt x="442" y="34"/>
                    </a:lnTo>
                    <a:lnTo>
                      <a:pt x="432" y="23"/>
                    </a:lnTo>
                    <a:lnTo>
                      <a:pt x="420" y="15"/>
                    </a:lnTo>
                    <a:lnTo>
                      <a:pt x="408" y="8"/>
                    </a:lnTo>
                    <a:lnTo>
                      <a:pt x="395" y="3"/>
                    </a:lnTo>
                    <a:lnTo>
                      <a:pt x="381" y="1"/>
                    </a:lnTo>
                    <a:lnTo>
                      <a:pt x="366" y="0"/>
                    </a:lnTo>
                    <a:lnTo>
                      <a:pt x="352" y="3"/>
                    </a:lnTo>
                    <a:lnTo>
                      <a:pt x="336" y="8"/>
                    </a:lnTo>
                    <a:lnTo>
                      <a:pt x="319" y="14"/>
                    </a:lnTo>
                    <a:lnTo>
                      <a:pt x="302" y="23"/>
                    </a:lnTo>
                    <a:lnTo>
                      <a:pt x="286" y="34"/>
                    </a:lnTo>
                    <a:lnTo>
                      <a:pt x="269" y="47"/>
                    </a:lnTo>
                    <a:lnTo>
                      <a:pt x="251" y="62"/>
                    </a:lnTo>
                    <a:lnTo>
                      <a:pt x="234" y="79"/>
                    </a:lnTo>
                    <a:lnTo>
                      <a:pt x="218" y="98"/>
                    </a:lnTo>
                    <a:lnTo>
                      <a:pt x="201" y="118"/>
                    </a:lnTo>
                    <a:lnTo>
                      <a:pt x="184" y="140"/>
                    </a:lnTo>
                    <a:lnTo>
                      <a:pt x="167" y="164"/>
                    </a:lnTo>
                    <a:lnTo>
                      <a:pt x="151" y="189"/>
                    </a:lnTo>
                    <a:lnTo>
                      <a:pt x="136" y="216"/>
                    </a:lnTo>
                    <a:lnTo>
                      <a:pt x="121" y="245"/>
                    </a:lnTo>
                    <a:lnTo>
                      <a:pt x="107" y="273"/>
                    </a:lnTo>
                    <a:lnTo>
                      <a:pt x="92" y="303"/>
                    </a:lnTo>
                    <a:lnTo>
                      <a:pt x="80" y="334"/>
                    </a:lnTo>
                    <a:lnTo>
                      <a:pt x="67" y="364"/>
                    </a:lnTo>
                    <a:lnTo>
                      <a:pt x="56" y="396"/>
                    </a:lnTo>
                    <a:lnTo>
                      <a:pt x="45" y="428"/>
                    </a:lnTo>
                    <a:lnTo>
                      <a:pt x="36" y="460"/>
                    </a:lnTo>
                    <a:lnTo>
                      <a:pt x="27" y="492"/>
                    </a:lnTo>
                    <a:lnTo>
                      <a:pt x="20" y="525"/>
                    </a:lnTo>
                    <a:lnTo>
                      <a:pt x="14" y="555"/>
                    </a:lnTo>
                    <a:lnTo>
                      <a:pt x="8" y="587"/>
                    </a:lnTo>
                    <a:lnTo>
                      <a:pt x="4" y="617"/>
                    </a:lnTo>
                    <a:lnTo>
                      <a:pt x="1" y="647"/>
                    </a:lnTo>
                    <a:lnTo>
                      <a:pt x="0" y="676"/>
                    </a:lnTo>
                    <a:lnTo>
                      <a:pt x="0" y="705"/>
                    </a:lnTo>
                    <a:lnTo>
                      <a:pt x="0" y="731"/>
                    </a:lnTo>
                    <a:lnTo>
                      <a:pt x="2" y="756"/>
                    </a:lnTo>
                    <a:lnTo>
                      <a:pt x="4" y="780"/>
                    </a:lnTo>
                    <a:lnTo>
                      <a:pt x="9" y="803"/>
                    </a:lnTo>
                    <a:lnTo>
                      <a:pt x="15" y="824"/>
                    </a:lnTo>
                    <a:lnTo>
                      <a:pt x="21" y="842"/>
                    </a:lnTo>
                    <a:lnTo>
                      <a:pt x="28" y="859"/>
                    </a:lnTo>
                    <a:lnTo>
                      <a:pt x="38" y="874"/>
                    </a:lnTo>
                    <a:lnTo>
                      <a:pt x="47" y="888"/>
                    </a:lnTo>
                    <a:lnTo>
                      <a:pt x="57" y="899"/>
                    </a:lnTo>
                    <a:lnTo>
                      <a:pt x="69" y="907"/>
                    </a:lnTo>
                    <a:lnTo>
                      <a:pt x="81" y="914"/>
                    </a:lnTo>
                    <a:lnTo>
                      <a:pt x="94" y="919"/>
                    </a:lnTo>
                    <a:lnTo>
                      <a:pt x="108" y="921"/>
                    </a:lnTo>
                    <a:lnTo>
                      <a:pt x="123" y="922"/>
                    </a:lnTo>
                    <a:lnTo>
                      <a:pt x="137" y="919"/>
                    </a:lnTo>
                    <a:lnTo>
                      <a:pt x="153" y="914"/>
                    </a:lnTo>
                    <a:lnTo>
                      <a:pt x="170" y="908"/>
                    </a:lnTo>
                    <a:lnTo>
                      <a:pt x="186" y="899"/>
                    </a:lnTo>
                    <a:lnTo>
                      <a:pt x="202" y="888"/>
                    </a:lnTo>
                    <a:lnTo>
                      <a:pt x="219" y="875"/>
                    </a:lnTo>
                    <a:lnTo>
                      <a:pt x="237" y="860"/>
                    </a:lnTo>
                    <a:lnTo>
                      <a:pt x="254" y="843"/>
                    </a:lnTo>
                    <a:lnTo>
                      <a:pt x="270" y="824"/>
                    </a:lnTo>
                    <a:lnTo>
                      <a:pt x="287" y="804"/>
                    </a:lnTo>
                    <a:lnTo>
                      <a:pt x="304" y="782"/>
                    </a:lnTo>
                    <a:lnTo>
                      <a:pt x="322" y="758"/>
                    </a:lnTo>
                    <a:lnTo>
                      <a:pt x="338" y="733"/>
                    </a:lnTo>
                    <a:lnTo>
                      <a:pt x="353" y="707"/>
                    </a:lnTo>
                    <a:lnTo>
                      <a:pt x="368" y="677"/>
                    </a:lnTo>
                    <a:lnTo>
                      <a:pt x="382" y="649"/>
                    </a:lnTo>
                    <a:lnTo>
                      <a:pt x="397" y="619"/>
                    </a:lnTo>
                    <a:lnTo>
                      <a:pt x="409" y="588"/>
                    </a:lnTo>
                    <a:lnTo>
                      <a:pt x="422" y="558"/>
                    </a:lnTo>
                    <a:lnTo>
                      <a:pt x="433" y="526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12040" y="304920"/>
                <a:ext cx="407880" cy="744480"/>
              </a:xfrm>
              <a:custGeom>
                <a:avLst/>
                <a:gdLst/>
                <a:ahLst/>
                <a:rect l="l" t="t" r="r" b="b"/>
                <a:pathLst>
                  <a:path w="515" h="938">
                    <a:moveTo>
                      <a:pt x="515" y="45"/>
                    </a:moveTo>
                    <a:lnTo>
                      <a:pt x="468" y="42"/>
                    </a:lnTo>
                    <a:lnTo>
                      <a:pt x="420" y="51"/>
                    </a:lnTo>
                    <a:lnTo>
                      <a:pt x="381" y="90"/>
                    </a:lnTo>
                    <a:lnTo>
                      <a:pt x="324" y="131"/>
                    </a:lnTo>
                    <a:lnTo>
                      <a:pt x="298" y="170"/>
                    </a:lnTo>
                    <a:lnTo>
                      <a:pt x="268" y="211"/>
                    </a:lnTo>
                    <a:lnTo>
                      <a:pt x="235" y="281"/>
                    </a:lnTo>
                    <a:lnTo>
                      <a:pt x="211" y="343"/>
                    </a:lnTo>
                    <a:lnTo>
                      <a:pt x="179" y="409"/>
                    </a:lnTo>
                    <a:lnTo>
                      <a:pt x="158" y="468"/>
                    </a:lnTo>
                    <a:lnTo>
                      <a:pt x="131" y="566"/>
                    </a:lnTo>
                    <a:lnTo>
                      <a:pt x="119" y="649"/>
                    </a:lnTo>
                    <a:lnTo>
                      <a:pt x="110" y="722"/>
                    </a:lnTo>
                    <a:lnTo>
                      <a:pt x="107" y="787"/>
                    </a:lnTo>
                    <a:lnTo>
                      <a:pt x="125" y="864"/>
                    </a:lnTo>
                    <a:lnTo>
                      <a:pt x="137" y="906"/>
                    </a:lnTo>
                    <a:lnTo>
                      <a:pt x="170" y="938"/>
                    </a:lnTo>
                    <a:lnTo>
                      <a:pt x="36" y="876"/>
                    </a:lnTo>
                    <a:lnTo>
                      <a:pt x="9" y="817"/>
                    </a:lnTo>
                    <a:lnTo>
                      <a:pt x="0" y="769"/>
                    </a:lnTo>
                    <a:lnTo>
                      <a:pt x="3" y="697"/>
                    </a:lnTo>
                    <a:lnTo>
                      <a:pt x="3" y="614"/>
                    </a:lnTo>
                    <a:lnTo>
                      <a:pt x="18" y="519"/>
                    </a:lnTo>
                    <a:lnTo>
                      <a:pt x="42" y="441"/>
                    </a:lnTo>
                    <a:lnTo>
                      <a:pt x="75" y="337"/>
                    </a:lnTo>
                    <a:lnTo>
                      <a:pt x="125" y="221"/>
                    </a:lnTo>
                    <a:lnTo>
                      <a:pt x="182" y="134"/>
                    </a:lnTo>
                    <a:lnTo>
                      <a:pt x="244" y="60"/>
                    </a:lnTo>
                    <a:lnTo>
                      <a:pt x="277" y="33"/>
                    </a:lnTo>
                    <a:lnTo>
                      <a:pt x="324" y="6"/>
                    </a:lnTo>
                    <a:lnTo>
                      <a:pt x="348" y="0"/>
                    </a:lnTo>
                    <a:lnTo>
                      <a:pt x="515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29480" y="622440"/>
                <a:ext cx="92160" cy="158760"/>
              </a:xfrm>
              <a:custGeom>
                <a:avLst/>
                <a:gdLst/>
                <a:ahLst/>
                <a:rect l="l" t="t" r="r" b="b"/>
                <a:pathLst>
                  <a:path w="116" h="200">
                    <a:moveTo>
                      <a:pt x="105" y="116"/>
                    </a:moveTo>
                    <a:lnTo>
                      <a:pt x="110" y="99"/>
                    </a:lnTo>
                    <a:lnTo>
                      <a:pt x="114" y="81"/>
                    </a:lnTo>
                    <a:lnTo>
                      <a:pt x="116" y="65"/>
                    </a:lnTo>
                    <a:lnTo>
                      <a:pt x="116" y="49"/>
                    </a:lnTo>
                    <a:lnTo>
                      <a:pt x="114" y="35"/>
                    </a:lnTo>
                    <a:lnTo>
                      <a:pt x="111" y="22"/>
                    </a:lnTo>
                    <a:lnTo>
                      <a:pt x="106" y="12"/>
                    </a:lnTo>
                    <a:lnTo>
                      <a:pt x="100" y="6"/>
                    </a:lnTo>
                    <a:lnTo>
                      <a:pt x="92" y="1"/>
                    </a:lnTo>
                    <a:lnTo>
                      <a:pt x="83" y="0"/>
                    </a:lnTo>
                    <a:lnTo>
                      <a:pt x="74" y="1"/>
                    </a:lnTo>
                    <a:lnTo>
                      <a:pt x="64" y="6"/>
                    </a:lnTo>
                    <a:lnTo>
                      <a:pt x="54" y="14"/>
                    </a:lnTo>
                    <a:lnTo>
                      <a:pt x="44" y="24"/>
                    </a:lnTo>
                    <a:lnTo>
                      <a:pt x="34" y="37"/>
                    </a:lnTo>
                    <a:lnTo>
                      <a:pt x="25" y="51"/>
                    </a:lnTo>
                    <a:lnTo>
                      <a:pt x="18" y="67"/>
                    </a:lnTo>
                    <a:lnTo>
                      <a:pt x="11" y="84"/>
                    </a:lnTo>
                    <a:lnTo>
                      <a:pt x="6" y="101"/>
                    </a:lnTo>
                    <a:lnTo>
                      <a:pt x="2" y="119"/>
                    </a:lnTo>
                    <a:lnTo>
                      <a:pt x="0" y="135"/>
                    </a:lnTo>
                    <a:lnTo>
                      <a:pt x="0" y="151"/>
                    </a:lnTo>
                    <a:lnTo>
                      <a:pt x="2" y="165"/>
                    </a:lnTo>
                    <a:lnTo>
                      <a:pt x="5" y="178"/>
                    </a:lnTo>
                    <a:lnTo>
                      <a:pt x="10" y="188"/>
                    </a:lnTo>
                    <a:lnTo>
                      <a:pt x="16" y="194"/>
                    </a:lnTo>
                    <a:lnTo>
                      <a:pt x="24" y="199"/>
                    </a:lnTo>
                    <a:lnTo>
                      <a:pt x="33" y="200"/>
                    </a:lnTo>
                    <a:lnTo>
                      <a:pt x="42" y="199"/>
                    </a:lnTo>
                    <a:lnTo>
                      <a:pt x="52" y="194"/>
                    </a:lnTo>
                    <a:lnTo>
                      <a:pt x="62" y="186"/>
                    </a:lnTo>
                    <a:lnTo>
                      <a:pt x="72" y="176"/>
                    </a:lnTo>
                    <a:lnTo>
                      <a:pt x="82" y="163"/>
                    </a:lnTo>
                    <a:lnTo>
                      <a:pt x="91" y="149"/>
                    </a:lnTo>
                    <a:lnTo>
                      <a:pt x="98" y="133"/>
                    </a:lnTo>
                    <a:lnTo>
                      <a:pt x="10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69080" y="417600"/>
              <a:ext cx="502920" cy="739800"/>
              <a:chOff x="6769080" y="417600"/>
              <a:chExt cx="502920" cy="739800"/>
            </a:xfrm>
          </p:grpSpPr>
          <p:sp>
            <p:nvSpPr>
              <p:cNvPr id="122" name=""/>
              <p:cNvSpPr/>
              <p:nvPr/>
            </p:nvSpPr>
            <p:spPr>
              <a:xfrm>
                <a:off x="6769080" y="451080"/>
                <a:ext cx="433080" cy="706320"/>
              </a:xfrm>
              <a:custGeom>
                <a:avLst/>
                <a:gdLst/>
                <a:ahLst/>
                <a:rect l="l" t="t" r="r" b="b"/>
                <a:pathLst>
                  <a:path w="545" h="890">
                    <a:moveTo>
                      <a:pt x="453" y="361"/>
                    </a:moveTo>
                    <a:lnTo>
                      <a:pt x="439" y="330"/>
                    </a:lnTo>
                    <a:lnTo>
                      <a:pt x="423" y="301"/>
                    </a:lnTo>
                    <a:lnTo>
                      <a:pt x="407" y="272"/>
                    </a:lnTo>
                    <a:lnTo>
                      <a:pt x="390" y="244"/>
                    </a:lnTo>
                    <a:lnTo>
                      <a:pt x="373" y="217"/>
                    </a:lnTo>
                    <a:lnTo>
                      <a:pt x="355" y="190"/>
                    </a:lnTo>
                    <a:lnTo>
                      <a:pt x="337" y="166"/>
                    </a:lnTo>
                    <a:lnTo>
                      <a:pt x="318" y="142"/>
                    </a:lnTo>
                    <a:lnTo>
                      <a:pt x="299" y="120"/>
                    </a:lnTo>
                    <a:lnTo>
                      <a:pt x="280" y="101"/>
                    </a:lnTo>
                    <a:lnTo>
                      <a:pt x="261" y="82"/>
                    </a:lnTo>
                    <a:lnTo>
                      <a:pt x="243" y="65"/>
                    </a:lnTo>
                    <a:lnTo>
                      <a:pt x="224" y="50"/>
                    </a:lnTo>
                    <a:lnTo>
                      <a:pt x="205" y="36"/>
                    </a:lnTo>
                    <a:lnTo>
                      <a:pt x="187" y="24"/>
                    </a:lnTo>
                    <a:lnTo>
                      <a:pt x="169" y="16"/>
                    </a:lnTo>
                    <a:lnTo>
                      <a:pt x="152" y="8"/>
                    </a:lnTo>
                    <a:lnTo>
                      <a:pt x="134" y="4"/>
                    </a:lnTo>
                    <a:lnTo>
                      <a:pt x="118" y="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75" y="5"/>
                    </a:lnTo>
                    <a:lnTo>
                      <a:pt x="62" y="11"/>
                    </a:lnTo>
                    <a:lnTo>
                      <a:pt x="51" y="20"/>
                    </a:lnTo>
                    <a:lnTo>
                      <a:pt x="40" y="29"/>
                    </a:lnTo>
                    <a:lnTo>
                      <a:pt x="31" y="42"/>
                    </a:lnTo>
                    <a:lnTo>
                      <a:pt x="24" y="57"/>
                    </a:lnTo>
                    <a:lnTo>
                      <a:pt x="16" y="72"/>
                    </a:lnTo>
                    <a:lnTo>
                      <a:pt x="11" y="90"/>
                    </a:lnTo>
                    <a:lnTo>
                      <a:pt x="6" y="109"/>
                    </a:lnTo>
                    <a:lnTo>
                      <a:pt x="3" y="130"/>
                    </a:lnTo>
                    <a:lnTo>
                      <a:pt x="0" y="154"/>
                    </a:lnTo>
                    <a:lnTo>
                      <a:pt x="1" y="178"/>
                    </a:lnTo>
                    <a:lnTo>
                      <a:pt x="1" y="203"/>
                    </a:lnTo>
                    <a:lnTo>
                      <a:pt x="4" y="229"/>
                    </a:lnTo>
                    <a:lnTo>
                      <a:pt x="7" y="257"/>
                    </a:lnTo>
                    <a:lnTo>
                      <a:pt x="11" y="285"/>
                    </a:lnTo>
                    <a:lnTo>
                      <a:pt x="17" y="315"/>
                    </a:lnTo>
                    <a:lnTo>
                      <a:pt x="24" y="344"/>
                    </a:lnTo>
                    <a:lnTo>
                      <a:pt x="33" y="375"/>
                    </a:lnTo>
                    <a:lnTo>
                      <a:pt x="43" y="405"/>
                    </a:lnTo>
                    <a:lnTo>
                      <a:pt x="53" y="437"/>
                    </a:lnTo>
                    <a:lnTo>
                      <a:pt x="65" y="468"/>
                    </a:lnTo>
                    <a:lnTo>
                      <a:pt x="77" y="498"/>
                    </a:lnTo>
                    <a:lnTo>
                      <a:pt x="92" y="529"/>
                    </a:lnTo>
                    <a:lnTo>
                      <a:pt x="106" y="561"/>
                    </a:lnTo>
                    <a:lnTo>
                      <a:pt x="122" y="590"/>
                    </a:lnTo>
                    <a:lnTo>
                      <a:pt x="138" y="619"/>
                    </a:lnTo>
                    <a:lnTo>
                      <a:pt x="155" y="647"/>
                    </a:lnTo>
                    <a:lnTo>
                      <a:pt x="173" y="674"/>
                    </a:lnTo>
                    <a:lnTo>
                      <a:pt x="191" y="701"/>
                    </a:lnTo>
                    <a:lnTo>
                      <a:pt x="209" y="725"/>
                    </a:lnTo>
                    <a:lnTo>
                      <a:pt x="228" y="749"/>
                    </a:lnTo>
                    <a:lnTo>
                      <a:pt x="247" y="771"/>
                    </a:lnTo>
                    <a:lnTo>
                      <a:pt x="266" y="790"/>
                    </a:lnTo>
                    <a:lnTo>
                      <a:pt x="285" y="809"/>
                    </a:lnTo>
                    <a:lnTo>
                      <a:pt x="303" y="826"/>
                    </a:lnTo>
                    <a:lnTo>
                      <a:pt x="322" y="841"/>
                    </a:lnTo>
                    <a:lnTo>
                      <a:pt x="341" y="855"/>
                    </a:lnTo>
                    <a:lnTo>
                      <a:pt x="359" y="866"/>
                    </a:lnTo>
                    <a:lnTo>
                      <a:pt x="377" y="874"/>
                    </a:lnTo>
                    <a:lnTo>
                      <a:pt x="393" y="882"/>
                    </a:lnTo>
                    <a:lnTo>
                      <a:pt x="411" y="886"/>
                    </a:lnTo>
                    <a:lnTo>
                      <a:pt x="427" y="890"/>
                    </a:lnTo>
                    <a:lnTo>
                      <a:pt x="442" y="890"/>
                    </a:lnTo>
                    <a:lnTo>
                      <a:pt x="456" y="888"/>
                    </a:lnTo>
                    <a:lnTo>
                      <a:pt x="470" y="885"/>
                    </a:lnTo>
                    <a:lnTo>
                      <a:pt x="483" y="879"/>
                    </a:lnTo>
                    <a:lnTo>
                      <a:pt x="494" y="870"/>
                    </a:lnTo>
                    <a:lnTo>
                      <a:pt x="505" y="861"/>
                    </a:lnTo>
                    <a:lnTo>
                      <a:pt x="514" y="849"/>
                    </a:lnTo>
                    <a:lnTo>
                      <a:pt x="521" y="834"/>
                    </a:lnTo>
                    <a:lnTo>
                      <a:pt x="529" y="819"/>
                    </a:lnTo>
                    <a:lnTo>
                      <a:pt x="534" y="801"/>
                    </a:lnTo>
                    <a:lnTo>
                      <a:pt x="539" y="782"/>
                    </a:lnTo>
                    <a:lnTo>
                      <a:pt x="542" y="761"/>
                    </a:lnTo>
                    <a:lnTo>
                      <a:pt x="545" y="737"/>
                    </a:lnTo>
                    <a:lnTo>
                      <a:pt x="544" y="713"/>
                    </a:lnTo>
                    <a:lnTo>
                      <a:pt x="544" y="688"/>
                    </a:lnTo>
                    <a:lnTo>
                      <a:pt x="541" y="662"/>
                    </a:lnTo>
                    <a:lnTo>
                      <a:pt x="538" y="634"/>
                    </a:lnTo>
                    <a:lnTo>
                      <a:pt x="534" y="606"/>
                    </a:lnTo>
                    <a:lnTo>
                      <a:pt x="528" y="576"/>
                    </a:lnTo>
                    <a:lnTo>
                      <a:pt x="521" y="547"/>
                    </a:lnTo>
                    <a:lnTo>
                      <a:pt x="512" y="515"/>
                    </a:lnTo>
                    <a:lnTo>
                      <a:pt x="502" y="485"/>
                    </a:lnTo>
                    <a:lnTo>
                      <a:pt x="492" y="453"/>
                    </a:lnTo>
                    <a:lnTo>
                      <a:pt x="480" y="422"/>
                    </a:lnTo>
                    <a:lnTo>
                      <a:pt x="468" y="392"/>
                    </a:lnTo>
                    <a:lnTo>
                      <a:pt x="453" y="361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04000" y="417600"/>
                <a:ext cx="468000" cy="727200"/>
              </a:xfrm>
              <a:custGeom>
                <a:avLst/>
                <a:gdLst/>
                <a:ahLst/>
                <a:rect l="l" t="t" r="r" b="b"/>
                <a:pathLst>
                  <a:path w="589" h="915">
                    <a:moveTo>
                      <a:pt x="0" y="62"/>
                    </a:moveTo>
                    <a:lnTo>
                      <a:pt x="48" y="56"/>
                    </a:lnTo>
                    <a:lnTo>
                      <a:pt x="95" y="56"/>
                    </a:lnTo>
                    <a:lnTo>
                      <a:pt x="141" y="90"/>
                    </a:lnTo>
                    <a:lnTo>
                      <a:pt x="200" y="132"/>
                    </a:lnTo>
                    <a:lnTo>
                      <a:pt x="233" y="165"/>
                    </a:lnTo>
                    <a:lnTo>
                      <a:pt x="265" y="203"/>
                    </a:lnTo>
                    <a:lnTo>
                      <a:pt x="304" y="269"/>
                    </a:lnTo>
                    <a:lnTo>
                      <a:pt x="337" y="325"/>
                    </a:lnTo>
                    <a:lnTo>
                      <a:pt x="375" y="391"/>
                    </a:lnTo>
                    <a:lnTo>
                      <a:pt x="402" y="450"/>
                    </a:lnTo>
                    <a:lnTo>
                      <a:pt x="438" y="539"/>
                    </a:lnTo>
                    <a:lnTo>
                      <a:pt x="458" y="624"/>
                    </a:lnTo>
                    <a:lnTo>
                      <a:pt x="476" y="695"/>
                    </a:lnTo>
                    <a:lnTo>
                      <a:pt x="485" y="760"/>
                    </a:lnTo>
                    <a:lnTo>
                      <a:pt x="476" y="838"/>
                    </a:lnTo>
                    <a:lnTo>
                      <a:pt x="467" y="879"/>
                    </a:lnTo>
                    <a:lnTo>
                      <a:pt x="441" y="915"/>
                    </a:lnTo>
                    <a:lnTo>
                      <a:pt x="565" y="841"/>
                    </a:lnTo>
                    <a:lnTo>
                      <a:pt x="586" y="781"/>
                    </a:lnTo>
                    <a:lnTo>
                      <a:pt x="589" y="731"/>
                    </a:lnTo>
                    <a:lnTo>
                      <a:pt x="580" y="662"/>
                    </a:lnTo>
                    <a:lnTo>
                      <a:pt x="571" y="579"/>
                    </a:lnTo>
                    <a:lnTo>
                      <a:pt x="544" y="483"/>
                    </a:lnTo>
                    <a:lnTo>
                      <a:pt x="515" y="405"/>
                    </a:lnTo>
                    <a:lnTo>
                      <a:pt x="470" y="307"/>
                    </a:lnTo>
                    <a:lnTo>
                      <a:pt x="408" y="197"/>
                    </a:lnTo>
                    <a:lnTo>
                      <a:pt x="343" y="117"/>
                    </a:lnTo>
                    <a:lnTo>
                      <a:pt x="274" y="48"/>
                    </a:lnTo>
                    <a:lnTo>
                      <a:pt x="239" y="27"/>
                    </a:lnTo>
                    <a:lnTo>
                      <a:pt x="191" y="6"/>
                    </a:lnTo>
                    <a:lnTo>
                      <a:pt x="167" y="0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27840" y="736560"/>
                <a:ext cx="102960" cy="154080"/>
              </a:xfrm>
              <a:custGeom>
                <a:avLst/>
                <a:gdLst/>
                <a:ahLst/>
                <a:rect l="l" t="t" r="r" b="b"/>
                <a:pathLst>
                  <a:path w="130" h="195">
                    <a:moveTo>
                      <a:pt x="112" y="75"/>
                    </a:moveTo>
                    <a:lnTo>
                      <a:pt x="104" y="59"/>
                    </a:lnTo>
                    <a:lnTo>
                      <a:pt x="94" y="44"/>
                    </a:lnTo>
                    <a:lnTo>
                      <a:pt x="84" y="31"/>
                    </a:lnTo>
                    <a:lnTo>
                      <a:pt x="73" y="19"/>
                    </a:lnTo>
                    <a:lnTo>
                      <a:pt x="61" y="11"/>
                    </a:lnTo>
                    <a:lnTo>
                      <a:pt x="50" y="4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1" y="2"/>
                    </a:lnTo>
                    <a:lnTo>
                      <a:pt x="13" y="7"/>
                    </a:lnTo>
                    <a:lnTo>
                      <a:pt x="7" y="15"/>
                    </a:lnTo>
                    <a:lnTo>
                      <a:pt x="3" y="26"/>
                    </a:lnTo>
                    <a:lnTo>
                      <a:pt x="1" y="38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102"/>
                    </a:lnTo>
                    <a:lnTo>
                      <a:pt x="18" y="119"/>
                    </a:lnTo>
                    <a:lnTo>
                      <a:pt x="26" y="135"/>
                    </a:lnTo>
                    <a:lnTo>
                      <a:pt x="36" y="150"/>
                    </a:lnTo>
                    <a:lnTo>
                      <a:pt x="46" y="163"/>
                    </a:lnTo>
                    <a:lnTo>
                      <a:pt x="57" y="176"/>
                    </a:lnTo>
                    <a:lnTo>
                      <a:pt x="69" y="184"/>
                    </a:lnTo>
                    <a:lnTo>
                      <a:pt x="80" y="191"/>
                    </a:lnTo>
                    <a:lnTo>
                      <a:pt x="91" y="195"/>
                    </a:lnTo>
                    <a:lnTo>
                      <a:pt x="100" y="195"/>
                    </a:lnTo>
                    <a:lnTo>
                      <a:pt x="109" y="193"/>
                    </a:lnTo>
                    <a:lnTo>
                      <a:pt x="117" y="188"/>
                    </a:lnTo>
                    <a:lnTo>
                      <a:pt x="123" y="180"/>
                    </a:lnTo>
                    <a:lnTo>
                      <a:pt x="127" y="168"/>
                    </a:lnTo>
                    <a:lnTo>
                      <a:pt x="129" y="156"/>
                    </a:lnTo>
                    <a:lnTo>
                      <a:pt x="130" y="141"/>
                    </a:lnTo>
                    <a:lnTo>
                      <a:pt x="128" y="125"/>
                    </a:lnTo>
                    <a:lnTo>
                      <a:pt x="125" y="109"/>
                    </a:lnTo>
                    <a:lnTo>
                      <a:pt x="119" y="92"/>
                    </a:lnTo>
                    <a:lnTo>
                      <a:pt x="11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2131-1920-4A72-AC8F-72DDDC50C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 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(suite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05280" y="14479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Jusqu’à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quelques frémisseme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but de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: la déconcentration initiée répond plus à un objectif d’efficacité qu’à un projet politique de redistribuer le pouvoi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82-1983 : lois de décent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92 : La déconcentration est définie comme le principe de base de l’organisation administrative (Loi du 6 février 199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A299-BB20-4017-AF50-38B12A436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6853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Qu’est-ce qu’une administration centralisée 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8" name="nuage" descr=""/>
          <p:cNvPicPr/>
          <p:nvPr/>
        </p:nvPicPr>
        <p:blipFill>
          <a:blip r:embed="rId1"/>
          <a:stretch/>
        </p:blipFill>
        <p:spPr>
          <a:xfrm>
            <a:off x="914400" y="3726000"/>
            <a:ext cx="365616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A795-2284-4D3E-8EC3-48B42CB27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rbier</cp:lastModifiedBy>
  <dcterms:modified xsi:type="dcterms:W3CDTF">2004-05-06T13:59:24Z</dcterms:modified>
  <cp:revision>493</cp:revision>
  <dc:subject/>
  <dc:title>Présentation PowerPoint</dc:title>
</cp:coreProperties>
</file>